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4D18E-B62B-476D-97DF-8C4C9CF26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03397-A402-4E05-B126-18C4A77E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CFE6B-B6F1-41C7-BEFF-513110B250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F29FE-EDEF-4C06-BB8E-3E37174239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3F444-3B30-4747-BD91-F9E196D47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67865-AC92-4AE0-A741-8E02BA049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005E26-17ED-4CA1-A348-B05E4A571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7C5AC-1C77-4C30-8403-85BB984663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94536A-8918-42FE-AD5F-FE994D595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DAEA38-5655-4B4C-89B8-8D0125766C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6C49CA-30D5-4A47-A745-8ABA3F1AE0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830436-669A-49DD-A649-CFE2F42401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64E7E-F461-4D98-87BA-F513ED811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E580AA-0F3B-4881-8B6A-DC2422CCFD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95DB40-3F62-4A75-8A93-3A33E81B55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2E2EB5-D49F-4C80-9C04-10F335F831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8832C2-8663-4508-98A6-2131B0FD4B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EA7534-01EB-4DBC-A899-F5810131EF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F4EA8A-D5FD-4F45-AD4E-1D993BDA27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03454-E3C1-43E3-942F-C6CABEE586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0C1422-E9FD-4709-A200-6206072F6B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27D43E-D5C7-4BEA-BB51-341EF76577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F8785E-CF1A-4DE3-8047-C25EF55F81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0173E-75C1-4DB5-8C29-9D49D9944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EFCFF4-BD72-4B36-8751-5F2806B2A8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A41058-A9F7-47AC-B680-473C246FA46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67EA4B-0343-4C11-BE29-C573C36007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E3138F-127F-4B49-ACEF-9D48B1CEE5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F7D546-890F-473E-848F-6FC9489F75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B3D0AE-6729-4A05-86A9-BF2C74C010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666BDC-6A61-4C22-BDC8-C9D35E37EF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055559-1A27-435F-995A-E457ADD5B0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4DC1F2-52CE-47C0-9EC3-F1B058E3FD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35DFB6-BCA2-4004-94E3-247FC2736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54D7036-E742-4D27-AF34-222B7702A6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192CEB-4385-43AA-A6E6-6F5312E6F1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A05029-96CC-4C8F-9C16-DAC438F0E6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37EF0C-913D-49AE-9B76-3BA8FC2F43D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08E993-C2E0-4B8A-AED5-67023A5059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4FB8A9-9C3F-4CE7-B49F-6EFAA70A61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4AAF91-BF81-4353-90BC-81F6F3B78D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033514-758E-4B5D-9B32-CC7B392697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5C6ECF-50C6-4071-BCA3-9DFFA15736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B49F50-AE21-4872-935C-11ADF18613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50BFA9-7B1E-4EE3-B529-E3F19EDD14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623D80B-CA01-4643-A095-0A5B86C4182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765BB8-40F3-49A1-9223-6ED5561EBA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CDC5C5-551C-437C-BA07-06342C9E92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E3F04D-0024-4215-95E6-3C9695523B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74CD51-DD8B-47F0-A335-BDB8080A81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1F48B3-F244-476F-A80D-0AC16BEA3A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A3F084F-4DEE-48CB-8989-5675479F402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B195B0-722B-4209-B117-546AD8BA26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C6DA50-2771-406C-A34A-663DCC1B6D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3A366E8-B226-4925-AFEE-72442919FB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0E5A4E-5788-430F-AE1E-DE340219EB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80BB737-4870-4874-BB74-BA1BA8BE89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88B1A5-64C2-4B68-B885-96E545C164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433832-3645-45E8-868F-5D7A15E397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3056E1-A93B-4B69-976F-CA473E6F17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E15D9B-4FE4-454C-AFB0-3CA785D69A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BD2C8A-1B40-41BE-8A6E-7A93B52B6F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8B0C082-1345-4370-A74B-FC610F81D04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F7A36A-CAF8-4E07-9C16-31A06B1B345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878225-FBDC-4B13-8D8A-806681DF08B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38A0D9-754E-4211-89D6-E69242D1C1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2F427A-E096-4900-814C-8BAEF9BB76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D678915-AA8B-4285-83AF-B2D517CD65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A16F07-8EB0-43CD-ACF1-10F406C98C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A4AFB3-B03C-4DBA-87EC-45998C2AFF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A63B7C-A475-4ACF-84AC-37BAF2FD6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DB3869-C39B-4D3E-8595-DC4448E5CD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73D16D-9270-49B2-8C14-E899748FDD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FF90AC-7132-463D-AC9F-102BEC18C3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A3258E-2FE0-4247-8E19-12DD2CA576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9F85B3-ADCB-45C0-AF26-079E41730AD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F01A30-8092-46A2-881D-A4E669DF4CA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D36F4C-75CC-4C60-A5CA-D252DCE4EF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E195262-06A4-446C-AC9F-D8B4C1DD90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BB8BCE-EFE1-4980-9634-79AA993B6B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EABB2E-43A0-43D7-A03A-2B5984EE00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F1FF2E-DAED-4C3E-8192-C8C7176E23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A82D91-3F3F-4BA5-A78D-AECF92E8AF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0950170-6032-4E5B-BB28-4E93E854F03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7FB7A7-3D4A-4B6F-B093-DFDE7394C5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9748A8-C45D-448C-934B-84D7D328EE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C327097-4EF9-48B2-BDB3-4D3573ED5A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4933C5A-4A83-4CD5-9D54-169291FF61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77F925-F4C8-4691-9C74-269E173001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E8865895-4287-45CF-A8D4-DB65452886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730560-8ED6-4A70-9ADB-17606AF622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AA1BB2F-8D66-4C2C-BF69-C7082A37BC4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685F1D-AA9D-4812-831E-882C147FA8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412A8D-57AC-4880-AE2E-0101CCFC87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9CFE70-7CCD-41A7-ABB6-9560EA1F1E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7839E0-98E8-49CF-8E2A-96780B7397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1420DB-F192-44DB-9C45-6CABF00FAD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CC570F-252F-4E93-86EB-0A742F839C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8B56C43-DB54-4C1E-ADF2-555EAA7E65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48C3B8-374E-4DA6-8EFC-24DB56219E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5387840-7D85-4F19-974E-91AE5B592E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8AFC20-08EB-40E4-93E8-CB1E2E1292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59714CF-68CC-419A-900A-703D4AFBA0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26B6A3-8FE7-4CB8-BDD2-D11FC6DD80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A39919-7CA2-4601-9B18-2CE48E9044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B62DFE9-35A7-4F71-A7DE-C5312566E3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AA97E8-C9B5-40F1-8D1D-8E0BC2FFA84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436A8F-8396-4133-8E26-FB2FA68775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58003B-1CAA-4FBF-A960-95F64503CC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FC073D-4875-41DF-BC5D-A3AD19BF2F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0F6944A-1B0B-4C97-A980-73D68E6BCE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1C6F8-5C50-440B-B083-2973C425B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342843C-7923-42A4-B44C-004C6CFE7F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47D872-FA3C-44A8-97C4-D7B3AF6CE2B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CCBBD3-5944-4171-AABE-11AA8D9FF4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B6FBA3C-09EE-4071-80EF-3D9A9B60A1C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C108D2-74C2-4F71-9D3B-A58D21F758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BCC6851-8625-4A76-990E-F1726CFC9D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22604DCE-BAA3-4E4B-83A0-A9916673856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5D6ADAE-3B64-4A3C-8CF1-F59E8560462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19F9446-94CE-4777-AD1A-36CAEA65AF5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1FFA15C-C963-46C9-984A-3A629EA66B6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ADBC38-0607-436E-851D-D40685BE4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9554B-D539-40A3-9686-C785B9FC6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8EFF7-9DDF-47DB-B3A3-510DB976A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BA620-2482-4CF2-A90D-2D6CB7FB76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5B3A2-6444-4FD8-9005-97561B6AB9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61BCF-A55E-4C3A-B7B2-0D9F529A1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6BDF3-324F-4175-95E3-F270ED9DC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A3E8B-93D5-4C17-BA57-CDC2DAF81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D582C-FD6C-4189-A1AE-5B8CF1797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7059A-25C5-4C26-B758-B38B4A86F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92E91-5512-4F1E-BEFA-A8674C509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F13C5-7DAB-4CC0-9F81-6D94D19F92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41D022-A6CF-4C00-9DBC-CCEB412D13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FAB25-3E7A-4D65-A04E-223C0BBEE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C3EBE-0779-433E-B77A-B1A3D06E9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E6B23-172F-42B8-868B-67B7C9F00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8966-8050-4F09-BBF4-E9A1C5453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77DCD-3429-4D14-B361-10D56755D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26CB1-0C5E-486A-9883-3B7EF2CA6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2F2E7-6574-4C9B-B5C8-FA9BA8EA7B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66861-0FC5-402E-B1EB-AC3BBA5DE3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577EC-E3A4-4624-8263-DC3B9E177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4DA36-08CC-4316-8B74-6D95D071B5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8D578-498B-45F2-B07E-763418EA2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449DC9-A5BC-4C8C-8D6B-54452130A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41FD4A-DBD5-475F-945F-38D105FB1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557FE-7BD2-4C4E-A6FC-C9EFC50DDC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F4EC-F796-4A69-B69C-95007736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CC174-89F9-4969-BCE8-6E5EADE71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C618D-489A-46EA-9B65-E63278EFD4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5847A3-312A-40D2-8BB1-4345BEC01E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02144-C21A-41B0-B3C2-FEB6E8C1D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7BC87C-9630-4BAB-9E13-EA755138D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CD732B-C4E0-459E-8CEF-1DE09DE7B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B999C-10C8-432C-B9A4-4697457BCC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64D9C-C208-4C66-8BD3-F1BC64CA4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68B351-4006-4FB3-BC72-DD47E3645D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1F2CE8-D6D6-4983-8E15-E3DF476C9E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6CE59-279E-43D5-AF41-E8D4AA08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A76635-7644-49C3-9E26-015843B505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B99A02-AC4D-47D6-97E2-2131CA35B6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C1CC2-7888-46DD-8FE8-F005EAB9A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797C1A-0C84-44D4-9CCA-6840A135CB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6ABD5-23C1-4EC5-8648-09EE6502CC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12FB8-5654-4558-97B4-A64556E2D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06259-C35F-4D7D-8E92-8C67AE115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742F6-979B-4E11-8F27-43253EEFAC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44F6B-76A8-430B-98CD-1D6C7A0EFE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9C7DC2-304C-47FC-A8C6-ADD727B1E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BCC1-D7DF-4DE1-BD63-48E3BF95A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496E6-04B4-4632-85AD-895DE26CC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5E35E3-30B6-4E0D-B40C-5D1CDEBBE6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7BD34F-0183-4B4B-B545-113AC8E154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66FE6C-783E-4274-8895-1EC1A9F977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D75C26-022A-4E23-8FB7-3608F4266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3A0F27-C39E-41FE-841C-09573BAF7A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94E087-3B3B-4AF4-A55A-18149E43D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B64B5E-98D4-4184-9E39-1C8093C5A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59BB8C-ED34-4D70-8E15-B334693F0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D12A4-1B1E-4084-A9A7-1F308E252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B811-A0FE-4D6E-ADF0-F99FE155E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073C8-7D66-4A8C-AE48-D654715C1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4E73D-4B09-423D-97D7-2B5986492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87FEA-778A-4B2F-BDF7-4CD855F83C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51AFA0-648E-4DB9-8210-CFB2C1265E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01C220-0FA2-4DFD-B899-3DCABF011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FB831F-F86B-4935-B771-579CBEE4B9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1E96E4-5FE6-4DC0-9E38-6CC971054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96333-1ADF-47BE-9798-B9DEE5B941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80EDDE-2E24-4975-B575-E7BF4EA10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DA7F02-285F-4A50-AD61-EDE5B76F1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30D98-54E5-4887-8D0F-01D93E4E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15B8E-EE19-41F6-8F91-FDB1B78F7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128FF4-3E7F-4BB3-98CE-0FAEAF7D6E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4171E2-3506-4154-9122-DAC1B4AE6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29CAA4-0F89-4DE5-ACEA-CF62A3546A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03F22-0E08-41C9-9A94-46B74D76FB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428570-3057-4661-AFDB-DBD8B99E8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5F95D1-5892-4625-B0CB-A0DF815BA5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56785-1DF6-4AB8-8AD9-E49D54A41D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6BFDD7-DD4C-4CAA-835D-D6C3BD1C09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4683A-D86B-43D0-9ACA-88ACC14C8C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CE5B1-7694-414F-9693-34481A81EF97}"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59D86-5CAC-4863-B76B-572EAD36760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4CE73-E4FE-481F-AD8A-9AF2E5AFE0C3}"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55458-E908-42F2-9111-4FF2C2BBB85B}"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F64CC-AFA3-4338-B739-0D393CBA8619}"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7C921-2DF3-4E4E-BA37-177FE9F0271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74B98-39A7-478A-A742-BAFE6B71933C}"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53B53-9A5B-4E44-8175-89324189A61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47F12-2F97-4122-A702-67FEC335BDB8}"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CA020-F929-496F-ADFA-F4E90CF0CE0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F2020-FD37-47EF-A6C8-2ABD8A58EBAA}"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4E5C3-5EED-42F8-900E-93B9993FA2C0}"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AE339-B3F6-4559-BBA0-A7C5CA2936BE}"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0138D-BB25-430C-A01F-E8AEDB2386D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77C91-5DDC-4AD1-8842-93705FCA5E23}"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16EE1-ED97-4C16-8058-34BFDC37C04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956FA-08B1-4466-A1BA-9E182EDA1435}"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C062B-A6B3-4C96-B467-F99F9792025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A497C-74A8-41F3-BCBB-D38CC1B2B5C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78C47-FB57-40AF-8948-8644DD45E613}"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739C1-BB76-453E-87D7-F8CE1A95694E}"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E1883-1972-471A-BB23-8B279D020AE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90E69-D8AA-425A-94D7-FE6D1402C39E}"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83635-3B81-449C-A236-33F81B4A0D66}"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13B83-964E-406E-AF0B-6624A830F95F}"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29CA8-DECF-41EC-A3BD-595A886A2E5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C4FC2-36A6-428C-BD96-5396CC86214F}"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7426C-C121-4510-9768-5D64140CB57A}"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A30A8-79FB-49F3-BA2C-91949ECBC394}"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27B99-2729-4BDB-8D7A-471037FA58CD}"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97A67-F220-4264-9854-AF783E0E8C65}"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EA59B-A5B5-4779-A042-210A5C697D0F}"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prstGeom prst="pie">
            <a:avLst/>
          </a:pr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B75A6-05EC-4475-87D5-F076D7D0B9F1}" type="datetime">
              <a:rPr b="0" lang="en-US" sz="1200" spc="-1" strike="noStrike">
                <a:solidFill>
                  <a:srgbClr val="38abed"/>
                </a:solidFill>
                <a:latin typeface="Trebuchet MS"/>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3568D-4C9F-4AEF-9942-AAEAA2E620C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7" descr="Sound Icon.png"/>
          <p:cNvPicPr/>
          <p:nvPr/>
        </p:nvPicPr>
        <p:blipFill>
          <a:blip r:embed="rId1"/>
          <a:stretch/>
        </p:blipFill>
        <p:spPr>
          <a:xfrm>
            <a:off x="863640" y="517680"/>
            <a:ext cx="7226280" cy="5537160"/>
          </a:xfrm>
          <a:prstGeom prst="rect">
            <a:avLst/>
          </a:prstGeom>
          <a:ln w="0">
            <a:noFill/>
          </a:ln>
        </p:spPr>
      </p:pic>
      <p:sp>
        <p:nvSpPr>
          <p:cNvPr id="735"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undamental Acoustics</a:t>
            </a:r>
            <a:endParaRPr b="0" lang="en-US" sz="4400" spc="-1" strike="noStrike">
              <a:solidFill>
                <a:srgbClr val="ffffff"/>
              </a:solidFill>
              <a:latin typeface="Trebuchet MS"/>
            </a:endParaRPr>
          </a:p>
        </p:txBody>
      </p:sp>
      <p:sp>
        <p:nvSpPr>
          <p:cNvPr id="736" name="PlaceHolder 2"/>
          <p:cNvSpPr>
            <a:spLocks noGrp="1"/>
          </p:cNvSpPr>
          <p:nvPr>
            <p:ph type="subTitle"/>
          </p:nvPr>
        </p:nvSpPr>
        <p:spPr>
          <a:xfrm>
            <a:off x="1599840" y="3967200"/>
            <a:ext cx="67626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Wall And Room Structures</a:t>
            </a:r>
            <a:endParaRPr b="0" lang="en-US" sz="2400" spc="-1" strike="noStrike">
              <a:solidFill>
                <a:srgbClr val="ffffff"/>
              </a:solidFill>
              <a:latin typeface="Trebuchet MS"/>
            </a:endParaRPr>
          </a:p>
        </p:txBody>
      </p:sp>
      <p:sp>
        <p:nvSpPr>
          <p:cNvPr id="737" name="TextBox 5"/>
          <p:cNvSpPr/>
          <p:nvPr/>
        </p:nvSpPr>
        <p:spPr>
          <a:xfrm>
            <a:off x="187200" y="6265800"/>
            <a:ext cx="739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Copyright © 2010 – Shannon D. Near –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18" descr="Sound Icon.png"/>
          <p:cNvPicPr/>
          <p:nvPr/>
        </p:nvPicPr>
        <p:blipFill>
          <a:blip r:embed="rId1"/>
          <a:stretch/>
        </p:blipFill>
        <p:spPr>
          <a:xfrm>
            <a:off x="863640" y="517680"/>
            <a:ext cx="7226280" cy="5537160"/>
          </a:xfrm>
          <a:prstGeom prst="rect">
            <a:avLst/>
          </a:prstGeom>
          <a:ln w="0">
            <a:noFill/>
          </a:ln>
        </p:spPr>
      </p:pic>
      <p:sp>
        <p:nvSpPr>
          <p:cNvPr id="77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Terms</a:t>
            </a:r>
            <a:endParaRPr b="0" lang="en-US" sz="3800" spc="-1" strike="noStrike">
              <a:solidFill>
                <a:srgbClr val="ffffff"/>
              </a:solidFill>
              <a:latin typeface="Trebuchet MS"/>
            </a:endParaRPr>
          </a:p>
        </p:txBody>
      </p:sp>
      <p:sp>
        <p:nvSpPr>
          <p:cNvPr id="778" name=""/>
          <p:cNvSpPr txBox="1"/>
          <p:nvPr/>
        </p:nvSpPr>
        <p:spPr>
          <a:xfrm>
            <a:off x="779040" y="1828440"/>
            <a:ext cx="4840200" cy="4219560"/>
          </a:xfrm>
          <a:prstGeom prst="rect">
            <a:avLst/>
          </a:prstGeom>
          <a:noFill/>
          <a:ln w="0">
            <a:noFill/>
          </a:ln>
        </p:spPr>
        <p:txBody>
          <a:bodyPr anchor="t">
            <a:normAutofit fontScale="95000"/>
          </a:bodyPr>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C – Sound Transmission Class</a:t>
            </a:r>
            <a:endParaRPr b="0" lang="en-US" sz="24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Number rating of a wall or structures ability to block the transfer of sound</a:t>
            </a:r>
            <a:endParaRPr b="0" lang="en-US" sz="20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RC – Noise Reduction Coefficient</a:t>
            </a:r>
            <a:endParaRPr b="0" lang="en-US" sz="24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Number rating which categorizes the sound absorptive or reflective properties of a material or environment </a:t>
            </a:r>
            <a:endParaRPr b="0" lang="en-US" sz="2000" spc="-1" strike="noStrike">
              <a:solidFill>
                <a:srgbClr val="ffffff"/>
              </a:solidFill>
              <a:latin typeface="Trebuchet MS"/>
            </a:endParaRPr>
          </a:p>
        </p:txBody>
      </p:sp>
      <p:pic>
        <p:nvPicPr>
          <p:cNvPr id="779" name="Content Placeholder 16" descr="NRC.png"/>
          <p:cNvPicPr/>
          <p:nvPr/>
        </p:nvPicPr>
        <p:blipFill>
          <a:blip r:embed="rId2"/>
          <a:srcRect l="-1456" t="0" r="-4759" b="-2681"/>
          <a:stretch/>
        </p:blipFill>
        <p:spPr>
          <a:xfrm>
            <a:off x="6730920" y="4114800"/>
            <a:ext cx="1698840" cy="1828800"/>
          </a:xfrm>
          <a:prstGeom prst="rect">
            <a:avLst/>
          </a:prstGeom>
          <a:ln w="0">
            <a:noFill/>
          </a:ln>
        </p:spPr>
      </p:pic>
      <p:pic>
        <p:nvPicPr>
          <p:cNvPr id="780" name="Picture 17" descr="STC.png"/>
          <p:cNvPicPr/>
          <p:nvPr/>
        </p:nvPicPr>
        <p:blipFill>
          <a:blip r:embed="rId3"/>
          <a:srcRect l="0" t="0" r="50557" b="40782"/>
          <a:stretch/>
        </p:blipFill>
        <p:spPr>
          <a:xfrm>
            <a:off x="6745320" y="1612800"/>
            <a:ext cx="160020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5" descr="Sound Icon.png"/>
          <p:cNvPicPr/>
          <p:nvPr/>
        </p:nvPicPr>
        <p:blipFill>
          <a:blip r:embed="rId1"/>
          <a:stretch/>
        </p:blipFill>
        <p:spPr>
          <a:xfrm>
            <a:off x="863640" y="517680"/>
            <a:ext cx="7226280" cy="5537160"/>
          </a:xfrm>
          <a:prstGeom prst="rect">
            <a:avLst/>
          </a:prstGeom>
          <a:ln w="0">
            <a:noFill/>
          </a:ln>
        </p:spPr>
      </p:pic>
      <p:sp>
        <p:nvSpPr>
          <p:cNvPr id="78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TC – Privacy Anyone? </a:t>
            </a:r>
            <a:endParaRPr b="0" lang="en-US" sz="3800" spc="-1" strike="noStrike">
              <a:solidFill>
                <a:srgbClr val="ffffff"/>
              </a:solidFill>
              <a:latin typeface="Trebuchet MS"/>
            </a:endParaRPr>
          </a:p>
        </p:txBody>
      </p:sp>
      <p:sp>
        <p:nvSpPr>
          <p:cNvPr id="783" name=""/>
          <p:cNvSpPr txBox="1"/>
          <p:nvPr/>
        </p:nvSpPr>
        <p:spPr>
          <a:xfrm>
            <a:off x="779040" y="1622520"/>
            <a:ext cx="5475240" cy="4680000"/>
          </a:xfrm>
          <a:prstGeom prst="rect">
            <a:avLst/>
          </a:prstGeom>
          <a:noFill/>
          <a:ln w="0">
            <a:noFill/>
          </a:ln>
        </p:spPr>
        <p:txBody>
          <a:bodyPr anchor="t">
            <a:normAutofit fontScale="98000"/>
          </a:bodyPr>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C – Sound Transmission Class</a:t>
            </a:r>
            <a:endParaRPr b="0" lang="en-US" sz="24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t is the primary way to infer how isolated a room or environment is relative to other rooms.</a:t>
            </a: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neral Guidelines</a:t>
            </a: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30-35 STC = </a:t>
            </a:r>
            <a:r>
              <a:rPr b="0" lang="en-US" sz="2000" spc="-1" strike="noStrike">
                <a:solidFill>
                  <a:srgbClr val="ffffff"/>
                </a:solidFill>
                <a:latin typeface="Trebuchet MS"/>
              </a:rPr>
              <a:t>	</a:t>
            </a:r>
            <a:r>
              <a:rPr b="0" lang="en-US" sz="2000" spc="-1" strike="noStrike">
                <a:solidFill>
                  <a:srgbClr val="ffffff"/>
                </a:solidFill>
                <a:latin typeface="Trebuchet MS"/>
              </a:rPr>
              <a:t>Loud talking understood</a:t>
            </a: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40-50 STC = </a:t>
            </a:r>
            <a:r>
              <a:rPr b="0" lang="en-US" sz="2000" spc="-1" strike="noStrike">
                <a:solidFill>
                  <a:srgbClr val="ffffff"/>
                </a:solidFill>
                <a:latin typeface="Trebuchet MS"/>
              </a:rPr>
              <a:t>	</a:t>
            </a:r>
            <a:r>
              <a:rPr b="0" lang="en-US" sz="2000" spc="-1" strike="noStrike">
                <a:solidFill>
                  <a:srgbClr val="ffffff"/>
                </a:solidFill>
                <a:latin typeface="Trebuchet MS"/>
              </a:rPr>
              <a:t>Loud talking not easily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understood but may have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occupant awareness</a:t>
            </a: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60+ STC =</a:t>
            </a:r>
            <a:r>
              <a:rPr b="0" lang="en-US" sz="2000" spc="-1" strike="noStrike">
                <a:solidFill>
                  <a:srgbClr val="ffffff"/>
                </a:solidFill>
                <a:latin typeface="Trebuchet MS"/>
              </a:rPr>
              <a:t>	</a:t>
            </a:r>
            <a:r>
              <a:rPr b="0" lang="en-US" sz="2000" spc="-1" strike="noStrike">
                <a:solidFill>
                  <a:srgbClr val="ffffff"/>
                </a:solidFill>
                <a:latin typeface="Trebuchet MS"/>
              </a:rPr>
              <a:t>Loud talking not audible</a:t>
            </a: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84" name="Picture 17" descr="STC.png"/>
          <p:cNvPicPr/>
          <p:nvPr/>
        </p:nvPicPr>
        <p:blipFill>
          <a:blip r:embed="rId2"/>
          <a:srcRect l="0" t="0" r="50557" b="40782"/>
          <a:stretch/>
        </p:blipFill>
        <p:spPr>
          <a:xfrm>
            <a:off x="6492960" y="1851120"/>
            <a:ext cx="2027160" cy="354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5" descr="Sound Icon.png"/>
          <p:cNvPicPr/>
          <p:nvPr/>
        </p:nvPicPr>
        <p:blipFill>
          <a:blip r:embed="rId1"/>
          <a:stretch/>
        </p:blipFill>
        <p:spPr>
          <a:xfrm>
            <a:off x="863640" y="517680"/>
            <a:ext cx="7226280" cy="5537160"/>
          </a:xfrm>
          <a:prstGeom prst="rect">
            <a:avLst/>
          </a:prstGeom>
          <a:ln w="0">
            <a:noFill/>
          </a:ln>
        </p:spPr>
      </p:pic>
      <p:sp>
        <p:nvSpPr>
          <p:cNvPr id="78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TC – What’s The Big Deal? </a:t>
            </a:r>
            <a:endParaRPr b="0" lang="en-US" sz="3800" spc="-1" strike="noStrike">
              <a:solidFill>
                <a:srgbClr val="ffffff"/>
              </a:solidFill>
              <a:latin typeface="Trebuchet MS"/>
            </a:endParaRPr>
          </a:p>
        </p:txBody>
      </p:sp>
      <p:sp>
        <p:nvSpPr>
          <p:cNvPr id="787" name=""/>
          <p:cNvSpPr txBox="1"/>
          <p:nvPr/>
        </p:nvSpPr>
        <p:spPr>
          <a:xfrm>
            <a:off x="779040" y="1654200"/>
            <a:ext cx="5475240" cy="4680000"/>
          </a:xfrm>
          <a:prstGeom prst="rect">
            <a:avLst/>
          </a:prstGeom>
          <a:noFill/>
          <a:ln w="0">
            <a:noFill/>
          </a:ln>
        </p:spPr>
        <p:txBody>
          <a:bodyPr anchor="t">
            <a:normAutofit/>
          </a:bodyPr>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hind The Scenes Voodoo</a:t>
            </a:r>
            <a:endParaRPr b="0" lang="en-US" sz="2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enerally measured by gathering transmission loss data along 16 different frequencies from 125Hz-4000Hz</a:t>
            </a:r>
            <a:endParaRPr b="0" lang="en-US" sz="20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entered on human voice frequencies</a:t>
            </a:r>
            <a:endParaRPr b="0" lang="en-US" sz="20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oes not cover low frequency industrial noise, music, etc. </a:t>
            </a:r>
            <a:endParaRPr b="0" lang="en-US" sz="20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Example: If an 80db sound on one side of </a:t>
            </a:r>
            <a:r>
              <a:rPr b="0" lang="en-US" sz="2000" spc="-1" strike="noStrike">
                <a:solidFill>
                  <a:srgbClr val="ffffff"/>
                </a:solidFill>
                <a:latin typeface="Trebuchet MS"/>
              </a:rPr>
              <a:t>	</a:t>
            </a:r>
            <a:r>
              <a:rPr b="0" lang="en-US" sz="2000" spc="-1" strike="noStrike">
                <a:solidFill>
                  <a:srgbClr val="ffffff"/>
                </a:solidFill>
                <a:latin typeface="Trebuchet MS"/>
              </a:rPr>
              <a:t>       wall is reduced to 50db on the   </a:t>
            </a:r>
            <a:r>
              <a:rPr b="0" lang="en-US" sz="2000" spc="-1" strike="noStrike">
                <a:solidFill>
                  <a:srgbClr val="ffffff"/>
                </a:solidFill>
                <a:latin typeface="Trebuchet MS"/>
              </a:rPr>
              <a:t>	</a:t>
            </a:r>
            <a:r>
              <a:rPr b="0" lang="en-US" sz="2000" spc="-1" strike="noStrike">
                <a:solidFill>
                  <a:srgbClr val="ffffff"/>
                </a:solidFill>
                <a:latin typeface="Trebuchet MS"/>
              </a:rPr>
              <a:t>       other the STC is 30</a:t>
            </a:r>
            <a:endParaRPr b="0" lang="en-US" sz="20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Remember every -10db = ½ as loud!</a:t>
            </a:r>
            <a:endParaRPr b="0" lang="en-US" sz="24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88" name="Picture 17" descr="STC.png"/>
          <p:cNvPicPr/>
          <p:nvPr/>
        </p:nvPicPr>
        <p:blipFill>
          <a:blip r:embed="rId2"/>
          <a:srcRect l="0" t="0" r="50557" b="40782"/>
          <a:stretch/>
        </p:blipFill>
        <p:spPr>
          <a:xfrm>
            <a:off x="6492960" y="1851120"/>
            <a:ext cx="2027160" cy="35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Picture 5" descr="Sound Icon.png"/>
          <p:cNvPicPr/>
          <p:nvPr/>
        </p:nvPicPr>
        <p:blipFill>
          <a:blip r:embed="rId1"/>
          <a:stretch/>
        </p:blipFill>
        <p:spPr>
          <a:xfrm>
            <a:off x="863640" y="517680"/>
            <a:ext cx="7226280" cy="5537160"/>
          </a:xfrm>
          <a:prstGeom prst="rect">
            <a:avLst/>
          </a:prstGeom>
          <a:ln w="0">
            <a:noFill/>
          </a:ln>
        </p:spPr>
      </p:pic>
      <p:sp>
        <p:nvSpPr>
          <p:cNvPr id="79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TC – Design With Confidence</a:t>
            </a:r>
            <a:endParaRPr b="0" lang="en-US" sz="3800" spc="-1" strike="noStrike">
              <a:solidFill>
                <a:srgbClr val="ffffff"/>
              </a:solidFill>
              <a:latin typeface="Trebuchet MS"/>
            </a:endParaRPr>
          </a:p>
        </p:txBody>
      </p:sp>
      <p:sp>
        <p:nvSpPr>
          <p:cNvPr id="791" name=""/>
          <p:cNvSpPr txBox="1"/>
          <p:nvPr/>
        </p:nvSpPr>
        <p:spPr>
          <a:xfrm>
            <a:off x="779040" y="1654200"/>
            <a:ext cx="5475240" cy="46800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atio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ost codes require minimum of 40 STC in commercial installation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t is harder to block low frequencies than high frequencies as the wave form is much more powerful and longer</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dding mass to the partition wall along with decoupling and insulation will vastly improve STC</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Beware of flanking path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92" name="Picture 17" descr="STC.png"/>
          <p:cNvPicPr/>
          <p:nvPr/>
        </p:nvPicPr>
        <p:blipFill>
          <a:blip r:embed="rId2"/>
          <a:srcRect l="0" t="0" r="50557" b="40782"/>
          <a:stretch/>
        </p:blipFill>
        <p:spPr>
          <a:xfrm>
            <a:off x="6492960" y="1851120"/>
            <a:ext cx="2027160" cy="35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5" descr="Sound Icon.png"/>
          <p:cNvPicPr/>
          <p:nvPr/>
        </p:nvPicPr>
        <p:blipFill>
          <a:blip r:embed="rId1"/>
          <a:stretch/>
        </p:blipFill>
        <p:spPr>
          <a:xfrm>
            <a:off x="863640" y="517680"/>
            <a:ext cx="7226280" cy="5537160"/>
          </a:xfrm>
          <a:prstGeom prst="rect">
            <a:avLst/>
          </a:prstGeom>
          <a:ln w="0">
            <a:noFill/>
          </a:ln>
        </p:spPr>
      </p:pic>
      <p:sp>
        <p:nvSpPr>
          <p:cNvPr id="79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TC – FLANKING PATHS</a:t>
            </a:r>
            <a:endParaRPr b="0" lang="en-US" sz="3800" spc="-1" strike="noStrike">
              <a:solidFill>
                <a:srgbClr val="ffffff"/>
              </a:solidFill>
              <a:latin typeface="Trebuchet MS"/>
            </a:endParaRPr>
          </a:p>
        </p:txBody>
      </p:sp>
      <p:sp>
        <p:nvSpPr>
          <p:cNvPr id="795" name=""/>
          <p:cNvSpPr txBox="1"/>
          <p:nvPr/>
        </p:nvSpPr>
        <p:spPr>
          <a:xfrm>
            <a:off x="779040" y="1654200"/>
            <a:ext cx="5475240" cy="46800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mon Flanking Path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Ceiling And Floor Joist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mon Duct Work</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issing Or Poor Fitting Door Sweep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ack-To-Back Electrical Or Utility Boxes In Same Stud Cavity</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Outlet Gap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96" name="Picture 6" descr="Flanking path.png"/>
          <p:cNvPicPr/>
          <p:nvPr/>
        </p:nvPicPr>
        <p:blipFill>
          <a:blip r:embed="rId2"/>
          <a:stretch/>
        </p:blipFill>
        <p:spPr>
          <a:xfrm>
            <a:off x="6246720" y="1827360"/>
            <a:ext cx="2028960" cy="354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5" descr="Sound Icon.png"/>
          <p:cNvPicPr/>
          <p:nvPr/>
        </p:nvPicPr>
        <p:blipFill>
          <a:blip r:embed="rId1"/>
          <a:stretch/>
        </p:blipFill>
        <p:spPr>
          <a:xfrm>
            <a:off x="863640" y="517680"/>
            <a:ext cx="7226280" cy="5537160"/>
          </a:xfrm>
          <a:prstGeom prst="rect">
            <a:avLst/>
          </a:prstGeom>
          <a:ln w="0">
            <a:noFill/>
          </a:ln>
        </p:spPr>
      </p:pic>
      <p:sp>
        <p:nvSpPr>
          <p:cNvPr id="79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STC – Improve Your Ratings</a:t>
            </a:r>
            <a:endParaRPr b="0" lang="en-US" sz="3800" spc="-1" strike="noStrike">
              <a:solidFill>
                <a:srgbClr val="ffffff"/>
              </a:solidFill>
              <a:latin typeface="Trebuchet MS"/>
            </a:endParaRPr>
          </a:p>
        </p:txBody>
      </p:sp>
      <p:sp>
        <p:nvSpPr>
          <p:cNvPr id="799" name=""/>
          <p:cNvSpPr txBox="1"/>
          <p:nvPr/>
        </p:nvSpPr>
        <p:spPr>
          <a:xfrm>
            <a:off x="779040" y="1654200"/>
            <a:ext cx="5475240" cy="4905360"/>
          </a:xfrm>
          <a:prstGeom prst="rect">
            <a:avLst/>
          </a:prstGeom>
          <a:noFill/>
          <a:ln w="0">
            <a:noFill/>
          </a:ln>
        </p:spPr>
        <p:txBody>
          <a:bodyPr anchor="t">
            <a:normAutofit fontScale="99000"/>
          </a:bodyPr>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ain Weight And Isolate</a:t>
            </a:r>
            <a:endParaRPr b="0" lang="en-US" sz="24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ecouple And Add Length To The Ventilation </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uble The Wallboard</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sulate The Stud Cavity</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sulate The Ceiling Plenum &amp; Floor Plenum</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eal All Flanking Paths</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 Extremely Sensitive Areas Use Double Walls With Dead Head Ventilation</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lan Ahead For Today &amp; Tomorrow</a:t>
            </a: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79720" indent="-2797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800" name="Picture 6" descr="Flanking path.png"/>
          <p:cNvPicPr/>
          <p:nvPr/>
        </p:nvPicPr>
        <p:blipFill>
          <a:blip r:embed="rId2"/>
          <a:stretch/>
        </p:blipFill>
        <p:spPr>
          <a:xfrm>
            <a:off x="6730920" y="2514600"/>
            <a:ext cx="3808440" cy="394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18" descr="Sound Icon.png"/>
          <p:cNvPicPr/>
          <p:nvPr/>
        </p:nvPicPr>
        <p:blipFill>
          <a:blip r:embed="rId1"/>
          <a:stretch/>
        </p:blipFill>
        <p:spPr>
          <a:xfrm>
            <a:off x="863640" y="517680"/>
            <a:ext cx="7226280" cy="5537160"/>
          </a:xfrm>
          <a:prstGeom prst="rect">
            <a:avLst/>
          </a:prstGeom>
          <a:ln w="0">
            <a:noFill/>
          </a:ln>
        </p:spPr>
      </p:pic>
      <p:sp>
        <p:nvSpPr>
          <p:cNvPr id="80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RC – What’s All The Noise About?</a:t>
            </a:r>
            <a:endParaRPr b="0" lang="en-US" sz="3800" spc="-1" strike="noStrike">
              <a:solidFill>
                <a:srgbClr val="ffffff"/>
              </a:solidFill>
              <a:latin typeface="Trebuchet MS"/>
            </a:endParaRPr>
          </a:p>
        </p:txBody>
      </p:sp>
      <p:sp>
        <p:nvSpPr>
          <p:cNvPr id="803" name=""/>
          <p:cNvSpPr txBox="1"/>
          <p:nvPr/>
        </p:nvSpPr>
        <p:spPr>
          <a:xfrm>
            <a:off x="779040" y="1828440"/>
            <a:ext cx="4840200" cy="4219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ise Reduction Coefficient</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Number rating which categorizes the sound absorptive or reflective properties of a material or environment </a:t>
            </a:r>
            <a:endParaRPr b="0" lang="en-US" sz="2000" spc="-1" strike="noStrike">
              <a:solidFill>
                <a:srgbClr val="ffffff"/>
              </a:solidFill>
              <a:latin typeface="Trebuchet MS"/>
            </a:endParaRPr>
          </a:p>
        </p:txBody>
      </p:sp>
      <p:pic>
        <p:nvPicPr>
          <p:cNvPr id="804" name="Content Placeholder 16" descr="NRC.png"/>
          <p:cNvPicPr/>
          <p:nvPr/>
        </p:nvPicPr>
        <p:blipFill>
          <a:blip r:embed="rId2"/>
          <a:srcRect l="-1456" t="0" r="38" b="-2681"/>
          <a:stretch/>
        </p:blipFill>
        <p:spPr>
          <a:xfrm>
            <a:off x="6492960" y="1889280"/>
            <a:ext cx="2012760" cy="33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18" descr="Sound Icon.png"/>
          <p:cNvPicPr/>
          <p:nvPr/>
        </p:nvPicPr>
        <p:blipFill>
          <a:blip r:embed="rId1"/>
          <a:stretch/>
        </p:blipFill>
        <p:spPr>
          <a:xfrm>
            <a:off x="863640" y="517680"/>
            <a:ext cx="7226280" cy="5537160"/>
          </a:xfrm>
          <a:prstGeom prst="rect">
            <a:avLst/>
          </a:prstGeom>
          <a:ln w="0">
            <a:noFill/>
          </a:ln>
        </p:spPr>
      </p:pic>
      <p:sp>
        <p:nvSpPr>
          <p:cNvPr id="80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RC – Doesn’t Tell You Everything</a:t>
            </a:r>
            <a:endParaRPr b="0" lang="en-US" sz="3800" spc="-1" strike="noStrike">
              <a:solidFill>
                <a:srgbClr val="ffffff"/>
              </a:solidFill>
              <a:latin typeface="Trebuchet MS"/>
            </a:endParaRPr>
          </a:p>
        </p:txBody>
      </p:sp>
      <p:sp>
        <p:nvSpPr>
          <p:cNvPr id="807" name=""/>
          <p:cNvSpPr txBox="1"/>
          <p:nvPr/>
        </p:nvSpPr>
        <p:spPr>
          <a:xfrm>
            <a:off x="779040" y="1828440"/>
            <a:ext cx="4840200" cy="4219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ise Reduction Coefficient</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s just an average of mid range frequencies (usually 250Hz, 500Hz, 1000Hz, and 2000Hz) rounded to the nearest 5% shown as a decimal.</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0.0 = Perfectly Reflective</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1.0= Perfectly Absorbent</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808" name="Content Placeholder 16" descr="NRC.png"/>
          <p:cNvPicPr/>
          <p:nvPr/>
        </p:nvPicPr>
        <p:blipFill>
          <a:blip r:embed="rId2"/>
          <a:srcRect l="-1456" t="0" r="38" b="-2681"/>
          <a:stretch/>
        </p:blipFill>
        <p:spPr>
          <a:xfrm>
            <a:off x="6492960" y="1889280"/>
            <a:ext cx="2012760" cy="337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9" name="Picture 18" descr="Sound Icon.png"/>
          <p:cNvPicPr/>
          <p:nvPr/>
        </p:nvPicPr>
        <p:blipFill>
          <a:blip r:embed="rId1"/>
          <a:stretch/>
        </p:blipFill>
        <p:spPr>
          <a:xfrm>
            <a:off x="863640" y="517680"/>
            <a:ext cx="7226280" cy="5537160"/>
          </a:xfrm>
          <a:prstGeom prst="rect">
            <a:avLst/>
          </a:prstGeom>
          <a:ln w="0">
            <a:noFill/>
          </a:ln>
        </p:spPr>
      </p:pic>
      <p:sp>
        <p:nvSpPr>
          <p:cNvPr id="81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RC – Be Careful</a:t>
            </a:r>
            <a:endParaRPr b="0" lang="en-US" sz="3800" spc="-1" strike="noStrike">
              <a:solidFill>
                <a:srgbClr val="ffffff"/>
              </a:solidFill>
              <a:latin typeface="Trebuchet MS"/>
            </a:endParaRPr>
          </a:p>
        </p:txBody>
      </p:sp>
      <p:sp>
        <p:nvSpPr>
          <p:cNvPr id="811" name=""/>
          <p:cNvSpPr txBox="1"/>
          <p:nvPr/>
        </p:nvSpPr>
        <p:spPr>
          <a:xfrm>
            <a:off x="779040" y="1828440"/>
            <a:ext cx="4840200" cy="4219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umber Can Be Misleading</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oes Not Rate A Materials Ability To Absorb High And Low Frequencie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veraging Allows For Different Materials To Have The Same Rating But Different Frequency Bia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Does Not Have Any Relevance To A Materials STC Rating</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812" name="Content Placeholder 16" descr="NRC.png"/>
          <p:cNvPicPr/>
          <p:nvPr/>
        </p:nvPicPr>
        <p:blipFill>
          <a:blip r:embed="rId2"/>
          <a:srcRect l="-1456" t="0" r="38" b="-2681"/>
          <a:stretch/>
        </p:blipFill>
        <p:spPr>
          <a:xfrm>
            <a:off x="6492960" y="1889280"/>
            <a:ext cx="2012760" cy="33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3" name="Picture 18" descr="Sound Icon.png"/>
          <p:cNvPicPr/>
          <p:nvPr/>
        </p:nvPicPr>
        <p:blipFill>
          <a:blip r:embed="rId1"/>
          <a:stretch/>
        </p:blipFill>
        <p:spPr>
          <a:xfrm>
            <a:off x="863640" y="517680"/>
            <a:ext cx="7226280" cy="5537160"/>
          </a:xfrm>
          <a:prstGeom prst="rect">
            <a:avLst/>
          </a:prstGeom>
          <a:ln w="0">
            <a:noFill/>
          </a:ln>
        </p:spPr>
      </p:pic>
      <p:sp>
        <p:nvSpPr>
          <p:cNvPr id="81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RC – Common Ratings</a:t>
            </a:r>
            <a:endParaRPr b="0" lang="en-US" sz="3800" spc="-1" strike="noStrike">
              <a:solidFill>
                <a:srgbClr val="ffffff"/>
              </a:solidFill>
              <a:latin typeface="Trebuchet MS"/>
            </a:endParaRPr>
          </a:p>
        </p:txBody>
      </p:sp>
      <p:sp>
        <p:nvSpPr>
          <p:cNvPr id="815" name=""/>
          <p:cNvSpPr txBox="1"/>
          <p:nvPr/>
        </p:nvSpPr>
        <p:spPr>
          <a:xfrm>
            <a:off x="779040" y="1828440"/>
            <a:ext cx="4840200" cy="4219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bsorptive Rating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rick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00-.03</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Wood</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05-.15</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Heavy Carpet</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30-.55</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18oz Drapery</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60-.65</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iberglass 3.5”</a:t>
            </a:r>
            <a:r>
              <a:rPr b="0" lang="en-US" sz="2000" spc="-1" strike="noStrike">
                <a:solidFill>
                  <a:srgbClr val="ffffff"/>
                </a:solidFill>
                <a:latin typeface="Trebuchet MS"/>
              </a:rPr>
              <a:t>	</a:t>
            </a:r>
            <a:r>
              <a:rPr b="0" lang="en-US" sz="2000" spc="-1" strike="noStrike">
                <a:solidFill>
                  <a:srgbClr val="ffffff"/>
                </a:solidFill>
                <a:latin typeface="Trebuchet MS"/>
              </a:rPr>
              <a:t>.80-.90</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816" name="Content Placeholder 16" descr="NRC.png"/>
          <p:cNvPicPr/>
          <p:nvPr/>
        </p:nvPicPr>
        <p:blipFill>
          <a:blip r:embed="rId2"/>
          <a:srcRect l="-1456" t="0" r="38" b="-2681"/>
          <a:stretch/>
        </p:blipFill>
        <p:spPr>
          <a:xfrm>
            <a:off x="6296040" y="1849320"/>
            <a:ext cx="2012760" cy="33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4" descr="Sound Icon.png"/>
          <p:cNvPicPr/>
          <p:nvPr/>
        </p:nvPicPr>
        <p:blipFill>
          <a:blip r:embed="rId1"/>
          <a:stretch/>
        </p:blipFill>
        <p:spPr>
          <a:xfrm>
            <a:off x="863640" y="517680"/>
            <a:ext cx="7226280" cy="5537160"/>
          </a:xfrm>
          <a:prstGeom prst="rect">
            <a:avLst/>
          </a:prstGeom>
          <a:ln w="0">
            <a:noFill/>
          </a:ln>
        </p:spPr>
      </p:pic>
      <p:sp>
        <p:nvSpPr>
          <p:cNvPr id="739" name="PlaceHolder 1"/>
          <p:cNvSpPr>
            <a:spLocks noGrp="1"/>
          </p:cNvSpPr>
          <p:nvPr>
            <p:ph type="title"/>
          </p:nvPr>
        </p:nvSpPr>
        <p:spPr>
          <a:xfrm>
            <a:off x="603360" y="380880"/>
            <a:ext cx="792144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coustics – It’s Not Rocket Science!</a:t>
            </a:r>
            <a:endParaRPr b="0" lang="en-US" sz="3800" spc="-1" strike="noStrike">
              <a:solidFill>
                <a:srgbClr val="ffffff"/>
              </a:solidFill>
              <a:latin typeface="Trebuchet MS"/>
            </a:endParaRPr>
          </a:p>
        </p:txBody>
      </p:sp>
      <p:sp>
        <p:nvSpPr>
          <p:cNvPr id="740" name="TextBox 2"/>
          <p:cNvSpPr/>
          <p:nvPr/>
        </p:nvSpPr>
        <p:spPr>
          <a:xfrm>
            <a:off x="698400" y="2048040"/>
            <a:ext cx="7905960" cy="34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It’s actually much harder! Rocket science deals primarily with well understood physics and mathematical formulas surrounding thrust, trajectory, time and dista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Acoustics deals with complex environments with an infinite number of variables in a very dynamic environmen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So…… Don’t sweat it!! </a:t>
            </a:r>
            <a:r>
              <a:rPr b="0" lang="en-US" sz="1800" spc="-1" strike="noStrike">
                <a:solidFill>
                  <a:srgbClr val="ffffff"/>
                </a:solidFill>
                <a:latin typeface="Trebuchet MS"/>
              </a:rPr>
              <a:t>Understanding a few terms and concepts will allow you to answer the vast majority of the questions you will ever be asked regarding acoustics. Remember, the person asking the question probably doesn’t know the answer eith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18" descr="Sound Icon.png"/>
          <p:cNvPicPr/>
          <p:nvPr/>
        </p:nvPicPr>
        <p:blipFill>
          <a:blip r:embed="rId1"/>
          <a:stretch/>
        </p:blipFill>
        <p:spPr>
          <a:xfrm>
            <a:off x="863640" y="517680"/>
            <a:ext cx="7226280" cy="5537160"/>
          </a:xfrm>
          <a:prstGeom prst="rect">
            <a:avLst/>
          </a:prstGeom>
          <a:ln w="0">
            <a:noFill/>
          </a:ln>
        </p:spPr>
      </p:pic>
      <p:sp>
        <p:nvSpPr>
          <p:cNvPr id="81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RC – Control The Reflections</a:t>
            </a:r>
            <a:endParaRPr b="0" lang="en-US" sz="3800" spc="-1" strike="noStrike">
              <a:solidFill>
                <a:srgbClr val="ffffff"/>
              </a:solidFill>
              <a:latin typeface="Trebuchet MS"/>
            </a:endParaRPr>
          </a:p>
        </p:txBody>
      </p:sp>
      <p:sp>
        <p:nvSpPr>
          <p:cNvPr id="819" name=""/>
          <p:cNvSpPr txBox="1"/>
          <p:nvPr/>
        </p:nvSpPr>
        <p:spPr>
          <a:xfrm>
            <a:off x="779040" y="1828800"/>
            <a:ext cx="5545080" cy="445608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on’t Strive For Perfectly Absorbent</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ost People Do Not Desire A Room That Is Totally Absorbent</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 Little Reverb Is Usually A Good Thing</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ngular Geometry Can Be A Good Alternative When Highly Absorbent Materials Cannot Be Used</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void Parallel Low NRC Wall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820" name="Content Placeholder 16" descr="NRC.png"/>
          <p:cNvPicPr/>
          <p:nvPr/>
        </p:nvPicPr>
        <p:blipFill>
          <a:blip r:embed="rId2"/>
          <a:srcRect l="-1456" t="0" r="38" b="-2681"/>
          <a:stretch/>
        </p:blipFill>
        <p:spPr>
          <a:xfrm>
            <a:off x="6558120" y="1889280"/>
            <a:ext cx="2012760" cy="337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4" descr="Sound Icon.png"/>
          <p:cNvPicPr/>
          <p:nvPr/>
        </p:nvPicPr>
        <p:blipFill>
          <a:blip r:embed="rId1"/>
          <a:stretch/>
        </p:blipFill>
        <p:spPr>
          <a:xfrm>
            <a:off x="863640" y="517680"/>
            <a:ext cx="7226280" cy="5537160"/>
          </a:xfrm>
          <a:prstGeom prst="rect">
            <a:avLst/>
          </a:prstGeom>
          <a:ln w="0">
            <a:noFill/>
          </a:ln>
        </p:spPr>
      </p:pic>
      <p:sp>
        <p:nvSpPr>
          <p:cNvPr id="822" name="PlaceHolder 1"/>
          <p:cNvSpPr>
            <a:spLocks noGrp="1"/>
          </p:cNvSpPr>
          <p:nvPr>
            <p:ph type="title"/>
          </p:nvPr>
        </p:nvSpPr>
        <p:spPr>
          <a:xfrm>
            <a:off x="603360" y="380880"/>
            <a:ext cx="792144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coustics 101 – You Made It!</a:t>
            </a:r>
            <a:endParaRPr b="0" lang="en-US" sz="3800" spc="-1" strike="noStrike">
              <a:solidFill>
                <a:srgbClr val="ffffff"/>
              </a:solidFill>
              <a:latin typeface="Trebuchet MS"/>
            </a:endParaRPr>
          </a:p>
        </p:txBody>
      </p:sp>
      <p:sp>
        <p:nvSpPr>
          <p:cNvPr id="823" name="TextBox 2"/>
          <p:cNvSpPr/>
          <p:nvPr/>
        </p:nvSpPr>
        <p:spPr>
          <a:xfrm>
            <a:off x="698400" y="2048040"/>
            <a:ext cx="7905960" cy="57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You Now Have The Tools To Answer Most Of The Acoustic Questions That You Will Ever Be Asked</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Do Not Be Afraid To Contact An Acoustician With Questions, Most Love To Talk About I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Remembe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Trebuchet MS"/>
              </a:rPr>
              <a:t>Acoustics…. It’s More Than Just Sound</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Picture 7" descr="Sound Icon.png"/>
          <p:cNvPicPr/>
          <p:nvPr/>
        </p:nvPicPr>
        <p:blipFill>
          <a:blip r:embed="rId1"/>
          <a:stretch/>
        </p:blipFill>
        <p:spPr>
          <a:xfrm>
            <a:off x="863640" y="517680"/>
            <a:ext cx="7226280" cy="5537160"/>
          </a:xfrm>
          <a:prstGeom prst="rect">
            <a:avLst/>
          </a:prstGeom>
          <a:ln w="0">
            <a:noFill/>
          </a:ln>
        </p:spPr>
      </p:pic>
      <p:sp>
        <p:nvSpPr>
          <p:cNvPr id="825"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undamental Acoustics</a:t>
            </a:r>
            <a:endParaRPr b="0" lang="en-US" sz="4400" spc="-1" strike="noStrike">
              <a:solidFill>
                <a:srgbClr val="ffffff"/>
              </a:solidFill>
              <a:latin typeface="Trebuchet MS"/>
            </a:endParaRPr>
          </a:p>
        </p:txBody>
      </p:sp>
      <p:sp>
        <p:nvSpPr>
          <p:cNvPr id="826" name="PlaceHolder 2"/>
          <p:cNvSpPr>
            <a:spLocks noGrp="1"/>
          </p:cNvSpPr>
          <p:nvPr>
            <p:ph type="subTitle"/>
          </p:nvPr>
        </p:nvSpPr>
        <p:spPr>
          <a:xfrm>
            <a:off x="1599840" y="3967200"/>
            <a:ext cx="67626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Wall And Room Structures</a:t>
            </a:r>
            <a:endParaRPr b="0" lang="en-US" sz="2400" spc="-1" strike="noStrike">
              <a:solidFill>
                <a:srgbClr val="ffffff"/>
              </a:solidFill>
              <a:latin typeface="Trebuchet MS"/>
            </a:endParaRPr>
          </a:p>
        </p:txBody>
      </p:sp>
      <p:sp>
        <p:nvSpPr>
          <p:cNvPr id="827" name="TextBox 5"/>
          <p:cNvSpPr/>
          <p:nvPr/>
        </p:nvSpPr>
        <p:spPr>
          <a:xfrm>
            <a:off x="187200" y="6265800"/>
            <a:ext cx="739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Copyright © 2010 – Shannon D. Near –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Sound Icon.png"/>
          <p:cNvPicPr/>
          <p:nvPr/>
        </p:nvPicPr>
        <p:blipFill>
          <a:blip r:embed="rId1"/>
          <a:stretch/>
        </p:blipFill>
        <p:spPr>
          <a:xfrm>
            <a:off x="863640" y="517680"/>
            <a:ext cx="7226280" cy="5537160"/>
          </a:xfrm>
          <a:prstGeom prst="rect">
            <a:avLst/>
          </a:prstGeom>
          <a:ln w="0">
            <a:noFill/>
          </a:ln>
        </p:spPr>
      </p:pic>
      <p:sp>
        <p:nvSpPr>
          <p:cNvPr id="742" name="PlaceHolder 1"/>
          <p:cNvSpPr>
            <a:spLocks noGrp="1"/>
          </p:cNvSpPr>
          <p:nvPr>
            <p:ph type="title"/>
          </p:nvPr>
        </p:nvSpPr>
        <p:spPr>
          <a:xfrm>
            <a:off x="603360" y="380880"/>
            <a:ext cx="792144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Acoustics – Why Bother?</a:t>
            </a:r>
            <a:endParaRPr b="0" lang="en-US" sz="3800" spc="-1" strike="noStrike">
              <a:solidFill>
                <a:srgbClr val="ffffff"/>
              </a:solidFill>
              <a:latin typeface="Trebuchet MS"/>
            </a:endParaRPr>
          </a:p>
        </p:txBody>
      </p:sp>
      <p:sp>
        <p:nvSpPr>
          <p:cNvPr id="743" name="TextBox 2"/>
          <p:cNvSpPr/>
          <p:nvPr/>
        </p:nvSpPr>
        <p:spPr>
          <a:xfrm>
            <a:off x="698400" y="2048040"/>
            <a:ext cx="790596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Acoustics, If Understood On Even An Elementary Level, Can Add High Value To Any Building Material Selection Discussio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Acoustics Are A Major Factor In Modern Construction Decisions And Are One Of The Least Understood Areas Of Desig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Poor Acoustics Can Ruin An Otherwise Beautiful Wall Installatio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In Many Cases, Building Codes Now Require An Acoustical Assessmen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17" descr=""/>
          <p:cNvPicPr/>
          <p:nvPr/>
        </p:nvPicPr>
        <p:blipFill>
          <a:blip r:embed="rId1"/>
          <a:stretch/>
        </p:blipFill>
        <p:spPr>
          <a:xfrm>
            <a:off x="5553000" y="2219400"/>
            <a:ext cx="3194280" cy="2297160"/>
          </a:xfrm>
          <a:prstGeom prst="rect">
            <a:avLst/>
          </a:prstGeom>
          <a:ln w="0">
            <a:noFill/>
          </a:ln>
        </p:spPr>
      </p:pic>
      <p:pic>
        <p:nvPicPr>
          <p:cNvPr id="745" name="Picture 16" descr="Sound Icon.png"/>
          <p:cNvPicPr/>
          <p:nvPr/>
        </p:nvPicPr>
        <p:blipFill>
          <a:blip r:embed="rId2"/>
          <a:stretch/>
        </p:blipFill>
        <p:spPr>
          <a:xfrm>
            <a:off x="863640" y="517680"/>
            <a:ext cx="7226280" cy="5537160"/>
          </a:xfrm>
          <a:prstGeom prst="rect">
            <a:avLst/>
          </a:prstGeom>
          <a:ln w="0">
            <a:noFill/>
          </a:ln>
        </p:spPr>
      </p:pic>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Terms</a:t>
            </a:r>
            <a:endParaRPr b="0" lang="en-US" sz="3800" spc="-1" strike="noStrike">
              <a:solidFill>
                <a:srgbClr val="ffffff"/>
              </a:solidFill>
              <a:latin typeface="Trebuchet MS"/>
            </a:endParaRPr>
          </a:p>
        </p:txBody>
      </p:sp>
      <p:sp>
        <p:nvSpPr>
          <p:cNvPr id="747" name=""/>
          <p:cNvSpPr txBox="1"/>
          <p:nvPr/>
        </p:nvSpPr>
        <p:spPr>
          <a:xfrm>
            <a:off x="779400" y="1590840"/>
            <a:ext cx="4348080" cy="44100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und</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s an oscillating wave of pressure which can travel through solids, liquids, and gases and is within a frequency range and of sufficient power level to be perceived by receptive organs.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8" name="Picture 16" descr="Sound Icon.png"/>
          <p:cNvPicPr/>
          <p:nvPr/>
        </p:nvPicPr>
        <p:blipFill>
          <a:blip r:embed="rId1"/>
          <a:stretch/>
        </p:blipFill>
        <p:spPr>
          <a:xfrm>
            <a:off x="863640" y="517680"/>
            <a:ext cx="7226280" cy="5537160"/>
          </a:xfrm>
          <a:prstGeom prst="rect">
            <a:avLst/>
          </a:prstGeom>
          <a:ln w="0">
            <a:noFill/>
          </a:ln>
        </p:spPr>
      </p:pic>
      <p:sp>
        <p:nvSpPr>
          <p:cNvPr id="74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Acoustic Terms</a:t>
            </a:r>
            <a:endParaRPr b="0" lang="en-US" sz="3800" spc="-1" strike="noStrike">
              <a:solidFill>
                <a:srgbClr val="ffffff"/>
              </a:solidFill>
              <a:latin typeface="Trebuchet MS"/>
            </a:endParaRPr>
          </a:p>
        </p:txBody>
      </p:sp>
      <p:sp>
        <p:nvSpPr>
          <p:cNvPr id="750" name=""/>
          <p:cNvSpPr txBox="1"/>
          <p:nvPr/>
        </p:nvSpPr>
        <p:spPr>
          <a:xfrm>
            <a:off x="779400" y="1590480"/>
            <a:ext cx="5221440" cy="1933560"/>
          </a:xfrm>
          <a:prstGeom prst="rect">
            <a:avLst/>
          </a:prstGeom>
          <a:noFill/>
          <a:ln w="0">
            <a:noFill/>
          </a:ln>
        </p:spPr>
        <p:txBody>
          <a:bodyPr anchor="t">
            <a:normAutofit fontScale="95000"/>
          </a:bodyPr>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requency</a:t>
            </a:r>
            <a:endParaRPr b="0" lang="en-US" sz="24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easured in Hertz (Hz) and is the number of wave cycles of sound per time, usually a second. The higher the frequency, the higher the perceived pitch.</a:t>
            </a:r>
            <a:endParaRPr b="0" lang="en-US" sz="20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68200" indent="-268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pic>
        <p:nvPicPr>
          <p:cNvPr id="751" name="Content Placeholder 9" descr="frequency.png"/>
          <p:cNvPicPr/>
          <p:nvPr/>
        </p:nvPicPr>
        <p:blipFill>
          <a:blip r:embed="rId2"/>
          <a:srcRect l="11820" t="0" r="5334" b="40906"/>
          <a:stretch/>
        </p:blipFill>
        <p:spPr>
          <a:xfrm>
            <a:off x="6238800" y="1527120"/>
            <a:ext cx="1809720" cy="2156040"/>
          </a:xfrm>
          <a:prstGeom prst="rect">
            <a:avLst/>
          </a:prstGeom>
          <a:ln w="0">
            <a:noFill/>
          </a:ln>
        </p:spPr>
      </p:pic>
      <p:sp>
        <p:nvSpPr>
          <p:cNvPr id="752" name="Right Arrow 11"/>
          <p:cNvSpPr/>
          <p:nvPr/>
        </p:nvSpPr>
        <p:spPr>
          <a:xfrm>
            <a:off x="7397640" y="1895400"/>
            <a:ext cx="412920" cy="182520"/>
          </a:xfrm>
          <a:prstGeom prst="rightArrow">
            <a:avLst>
              <a:gd name="adj1" fmla="val 50000"/>
              <a:gd name="adj2" fmla="val 46755"/>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3" name="Right Arrow 13"/>
          <p:cNvSpPr/>
          <p:nvPr/>
        </p:nvSpPr>
        <p:spPr>
          <a:xfrm rot="10800000">
            <a:off x="6423120" y="1895040"/>
            <a:ext cx="412560" cy="182520"/>
          </a:xfrm>
          <a:prstGeom prst="rightArrow">
            <a:avLst>
              <a:gd name="adj1" fmla="val 50000"/>
              <a:gd name="adj2" fmla="val 46714"/>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4" name="Content Placeholder 2"/>
          <p:cNvSpPr/>
          <p:nvPr/>
        </p:nvSpPr>
        <p:spPr>
          <a:xfrm>
            <a:off x="932040" y="3774960"/>
            <a:ext cx="5116320" cy="249552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itch</a:t>
            </a:r>
            <a:endParaRPr b="0" lang="en-US" sz="24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perceived sensation of sound frequencies as interpreted by the brain in a scale from high to low. Pitch is subjective and can be influenced by the environment, distortion, reflections, movement, etc.</a:t>
            </a:r>
            <a:endParaRPr b="0" lang="en-US" sz="20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16" descr="Sound Icon.png"/>
          <p:cNvPicPr/>
          <p:nvPr/>
        </p:nvPicPr>
        <p:blipFill>
          <a:blip r:embed="rId1"/>
          <a:stretch/>
        </p:blipFill>
        <p:spPr>
          <a:xfrm>
            <a:off x="863640" y="517680"/>
            <a:ext cx="7226280" cy="5537160"/>
          </a:xfrm>
          <a:prstGeom prst="rect">
            <a:avLst/>
          </a:prstGeom>
          <a:ln w="0">
            <a:noFill/>
          </a:ln>
        </p:spPr>
      </p:pic>
      <p:sp>
        <p:nvSpPr>
          <p:cNvPr id="75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udible Spectrum</a:t>
            </a:r>
            <a:endParaRPr b="0" lang="en-US" sz="3800" spc="-1" strike="noStrike">
              <a:solidFill>
                <a:srgbClr val="ffffff"/>
              </a:solidFill>
              <a:latin typeface="Trebuchet MS"/>
            </a:endParaRPr>
          </a:p>
        </p:txBody>
      </p:sp>
      <p:sp>
        <p:nvSpPr>
          <p:cNvPr id="757" name=""/>
          <p:cNvSpPr txBox="1"/>
          <p:nvPr/>
        </p:nvSpPr>
        <p:spPr>
          <a:xfrm>
            <a:off x="779040" y="1590480"/>
            <a:ext cx="5364360" cy="46479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0Hz – 20,000Hz</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human ear is typically capable of hearing between 20z – 20kHz</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emales can usually hear slightly higher frequencies than male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requencies above 20kHz are ultrasonic</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Frequencies below 20Hz are infrasonic</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human voice is usually in the 500Hz to 3500Hz range and is where the majority of acoustic tests are centered</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pic>
        <p:nvPicPr>
          <p:cNvPr id="758" name="Content Placeholder 9" descr="frequency.png"/>
          <p:cNvPicPr/>
          <p:nvPr/>
        </p:nvPicPr>
        <p:blipFill>
          <a:blip r:embed="rId2"/>
          <a:srcRect l="11820" t="0" r="5334" b="40906"/>
          <a:stretch/>
        </p:blipFill>
        <p:spPr>
          <a:xfrm>
            <a:off x="6238800" y="1527120"/>
            <a:ext cx="1809720" cy="2156040"/>
          </a:xfrm>
          <a:prstGeom prst="rect">
            <a:avLst/>
          </a:prstGeom>
          <a:ln w="0">
            <a:noFill/>
          </a:ln>
        </p:spPr>
      </p:pic>
      <p:sp>
        <p:nvSpPr>
          <p:cNvPr id="759" name="Right Arrow 11"/>
          <p:cNvSpPr/>
          <p:nvPr/>
        </p:nvSpPr>
        <p:spPr>
          <a:xfrm>
            <a:off x="7397640" y="1895400"/>
            <a:ext cx="412920" cy="182520"/>
          </a:xfrm>
          <a:prstGeom prst="rightArrow">
            <a:avLst>
              <a:gd name="adj1" fmla="val 50000"/>
              <a:gd name="adj2" fmla="val 46755"/>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0" name="Right Arrow 13"/>
          <p:cNvSpPr/>
          <p:nvPr/>
        </p:nvSpPr>
        <p:spPr>
          <a:xfrm rot="10800000">
            <a:off x="6423120" y="1895040"/>
            <a:ext cx="412560" cy="182520"/>
          </a:xfrm>
          <a:prstGeom prst="rightArrow">
            <a:avLst>
              <a:gd name="adj1" fmla="val 50000"/>
              <a:gd name="adj2" fmla="val 46714"/>
            </a:avLst>
          </a:prstGeom>
          <a:solidFill>
            <a:srgbClr val="ffffff"/>
          </a:solidFill>
          <a:ln w="0">
            <a:noFill/>
          </a:ln>
        </p:spPr>
        <p:style>
          <a:lnRef idx="0"/>
          <a:fillRef idx="0"/>
          <a:effectRef idx="0"/>
          <a:fontRef idx="minor"/>
        </p:style>
        <p:txBody>
          <a:bodyPr lIns="90000" rIns="90000" tIns="44640" bIns="446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Picture 16" descr="Sound Icon.png"/>
          <p:cNvPicPr/>
          <p:nvPr/>
        </p:nvPicPr>
        <p:blipFill>
          <a:blip r:embed="rId1"/>
          <a:stretch/>
        </p:blipFill>
        <p:spPr>
          <a:xfrm>
            <a:off x="863640" y="517680"/>
            <a:ext cx="7226280" cy="5784840"/>
          </a:xfrm>
          <a:prstGeom prst="rect">
            <a:avLst/>
          </a:prstGeom>
          <a:ln w="0">
            <a:noFill/>
          </a:ln>
        </p:spPr>
      </p:pic>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Now For The Really Hard Stuff!</a:t>
            </a:r>
            <a:endParaRPr b="0" lang="en-US" sz="3800" spc="-1" strike="noStrike">
              <a:solidFill>
                <a:srgbClr val="ffffff"/>
              </a:solidFill>
              <a:latin typeface="Trebuchet MS"/>
            </a:endParaRPr>
          </a:p>
        </p:txBody>
      </p:sp>
      <p:sp>
        <p:nvSpPr>
          <p:cNvPr id="763" name=""/>
          <p:cNvSpPr txBox="1"/>
          <p:nvPr/>
        </p:nvSpPr>
        <p:spPr>
          <a:xfrm>
            <a:off x="779040" y="1590840"/>
            <a:ext cx="5380200" cy="475920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cibel (db)</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 logarithmic unit that expresses intensity or power of something. In acoustics it measures Sound Pressure Level (SPL) as compared to a reference level (0db). 0 db is not dead silent!</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 humans, the ratio of SPL intensity causing permanent damage to the quietest perceived sound is over a trillion so it is expressed logarithmically base 10</a:t>
            </a:r>
            <a:r>
              <a:rPr b="0" lang="en-US" sz="2000" spc="-1" strike="noStrike" baseline="30000">
                <a:solidFill>
                  <a:srgbClr val="ffffff"/>
                </a:solidFill>
                <a:latin typeface="Trebuchet MS"/>
              </a:rPr>
              <a:t>12 </a:t>
            </a:r>
            <a:r>
              <a:rPr b="0" lang="en-US" sz="2000" spc="-1" strike="noStrike">
                <a:solidFill>
                  <a:srgbClr val="ffffff"/>
                </a:solidFill>
                <a:latin typeface="Trebuchet MS"/>
              </a:rPr>
              <a:t>= 12 which is expressed as 0-120 (db)</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ery -10db is half as loud</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pic>
        <p:nvPicPr>
          <p:cNvPr id="764" name="Picture 14" descr=""/>
          <p:cNvPicPr/>
          <p:nvPr/>
        </p:nvPicPr>
        <p:blipFill>
          <a:blip r:embed="rId2">
            <a:lum bright="70000" contrast="-70000"/>
          </a:blip>
          <a:stretch/>
        </p:blipFill>
        <p:spPr>
          <a:xfrm>
            <a:off x="6302520" y="2343240"/>
            <a:ext cx="2197080" cy="29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6" descr="Sound Icon.png"/>
          <p:cNvPicPr/>
          <p:nvPr/>
        </p:nvPicPr>
        <p:blipFill>
          <a:blip r:embed="rId1"/>
          <a:stretch/>
        </p:blipFill>
        <p:spPr>
          <a:xfrm>
            <a:off x="863640" y="517680"/>
            <a:ext cx="7226280" cy="5537160"/>
          </a:xfrm>
          <a:prstGeom prst="rect">
            <a:avLst/>
          </a:prstGeom>
          <a:ln w="0">
            <a:noFill/>
          </a:ln>
        </p:spPr>
      </p:pic>
      <p:sp>
        <p:nvSpPr>
          <p:cNvPr id="76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db Levels</a:t>
            </a:r>
            <a:endParaRPr b="0" lang="en-US" sz="3800" spc="-1" strike="noStrike">
              <a:solidFill>
                <a:srgbClr val="ffffff"/>
              </a:solidFill>
              <a:latin typeface="Trebuchet MS"/>
            </a:endParaRPr>
          </a:p>
        </p:txBody>
      </p:sp>
      <p:sp>
        <p:nvSpPr>
          <p:cNvPr id="767" name=""/>
          <p:cNvSpPr txBox="1"/>
          <p:nvPr/>
        </p:nvSpPr>
        <p:spPr>
          <a:xfrm>
            <a:off x="779040" y="1590840"/>
            <a:ext cx="4729320" cy="4473360"/>
          </a:xfrm>
          <a:prstGeom prst="rect">
            <a:avLst/>
          </a:prstGeom>
          <a:noFill/>
          <a:ln w="0">
            <a:noFill/>
          </a:ln>
        </p:spPr>
        <p:txBody>
          <a:bodyPr anchor="t">
            <a:normAutofit fontScale="91000"/>
          </a:bodyPr>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cibel (db)</a:t>
            </a:r>
            <a:endParaRPr b="0" lang="en-US" sz="24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Rain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40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Normal Conversation</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60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usy Traffic</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85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Rock Concerts</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105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aximum I-pod Volume</a:t>
            </a:r>
            <a:r>
              <a:rPr b="0" lang="en-US" sz="2000" spc="-1" strike="noStrike">
                <a:solidFill>
                  <a:srgbClr val="ffffff"/>
                </a:solidFill>
                <a:latin typeface="Trebuchet MS"/>
              </a:rPr>
              <a:t>	</a:t>
            </a:r>
            <a:r>
              <a:rPr b="0" lang="en-US" sz="2000" spc="-1" strike="noStrike">
                <a:solidFill>
                  <a:srgbClr val="ffffff"/>
                </a:solidFill>
                <a:latin typeface="Trebuchet MS"/>
              </a:rPr>
              <a:t>115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Gunshots</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140 db</a:t>
            </a: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57040" indent="-2570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8" name="TextBox 5"/>
          <p:cNvSpPr/>
          <p:nvPr/>
        </p:nvSpPr>
        <p:spPr>
          <a:xfrm>
            <a:off x="5619600" y="3365640"/>
            <a:ext cx="287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Long Term Safety Threshold</a:t>
            </a:r>
            <a:endParaRPr b="0" lang="en-US" sz="1600" spc="-1" strike="noStrike">
              <a:solidFill>
                <a:srgbClr val="000000"/>
              </a:solidFill>
              <a:latin typeface="Arial"/>
            </a:endParaRPr>
          </a:p>
        </p:txBody>
      </p:sp>
      <p:sp>
        <p:nvSpPr>
          <p:cNvPr id="769" name="TextBox 6"/>
          <p:cNvSpPr/>
          <p:nvPr/>
        </p:nvSpPr>
        <p:spPr>
          <a:xfrm>
            <a:off x="5613480" y="4772160"/>
            <a:ext cx="30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Permanent  Damage  Thresho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21" descr="Sound Icon.png"/>
          <p:cNvPicPr/>
          <p:nvPr/>
        </p:nvPicPr>
        <p:blipFill>
          <a:blip r:embed="rId1"/>
          <a:stretch/>
        </p:blipFill>
        <p:spPr>
          <a:xfrm>
            <a:off x="863640" y="517680"/>
            <a:ext cx="7226280" cy="5537160"/>
          </a:xfrm>
          <a:prstGeom prst="rect">
            <a:avLst/>
          </a:prstGeom>
          <a:ln w="0">
            <a:noFill/>
          </a:ln>
        </p:spPr>
      </p:pic>
      <p:sp>
        <p:nvSpPr>
          <p:cNvPr id="77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rimary Terms</a:t>
            </a:r>
            <a:endParaRPr b="0" lang="en-US" sz="3800" spc="-1" strike="noStrike">
              <a:solidFill>
                <a:srgbClr val="ffffff"/>
              </a:solidFill>
              <a:latin typeface="Trebuchet MS"/>
            </a:endParaRPr>
          </a:p>
        </p:txBody>
      </p:sp>
      <p:sp>
        <p:nvSpPr>
          <p:cNvPr id="772" name=""/>
          <p:cNvSpPr txBox="1"/>
          <p:nvPr/>
        </p:nvSpPr>
        <p:spPr>
          <a:xfrm>
            <a:off x="779040" y="1701360"/>
            <a:ext cx="4840200" cy="1933560"/>
          </a:xfrm>
          <a:prstGeom prst="rect">
            <a:avLst/>
          </a:prstGeom>
          <a:noFill/>
          <a:ln w="0">
            <a:noFill/>
          </a:ln>
        </p:spPr>
        <p:txBody>
          <a:bodyPr anchor="t">
            <a:normAutofit/>
          </a:bodyPr>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flections</a:t>
            </a: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condition where sound bounces off a surface(s) before reaching the receiver.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3" name="Content Placeholder 2"/>
          <p:cNvSpPr/>
          <p:nvPr/>
        </p:nvSpPr>
        <p:spPr>
          <a:xfrm>
            <a:off x="932040" y="3886200"/>
            <a:ext cx="5116320" cy="249552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erberation</a:t>
            </a:r>
            <a:endParaRPr b="0" lang="en-US" sz="24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ontinued reflections of sound within an enclosed space after the sound source has stopped. Long delays are called discreet echoes. </a:t>
            </a:r>
            <a:endParaRPr b="0" lang="en-US" sz="2000" spc="-1" strike="noStrike">
              <a:solidFill>
                <a:srgbClr val="000000"/>
              </a:solidFill>
              <a:latin typeface="Arial"/>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2600" indent="-282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4" name="Content Placeholder 19" descr="reflections.png"/>
          <p:cNvPicPr/>
          <p:nvPr/>
        </p:nvPicPr>
        <p:blipFill>
          <a:blip r:embed="rId2"/>
          <a:srcRect l="-1164" t="0" r="-899" b="0"/>
          <a:stretch/>
        </p:blipFill>
        <p:spPr>
          <a:xfrm>
            <a:off x="6477120" y="1819440"/>
            <a:ext cx="1596960" cy="1828800"/>
          </a:xfrm>
          <a:prstGeom prst="rect">
            <a:avLst/>
          </a:prstGeom>
          <a:ln w="0">
            <a:noFill/>
          </a:ln>
        </p:spPr>
      </p:pic>
      <p:pic>
        <p:nvPicPr>
          <p:cNvPr id="775" name="Picture 20" descr="Reverberation.png"/>
          <p:cNvPicPr/>
          <p:nvPr/>
        </p:nvPicPr>
        <p:blipFill>
          <a:blip r:embed="rId3"/>
          <a:stretch/>
        </p:blipFill>
        <p:spPr>
          <a:xfrm>
            <a:off x="6500880" y="4041720"/>
            <a:ext cx="1547640" cy="183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13:48:36Z</dcterms:created>
  <dc:creator>Shannon Near</dc:creator>
  <dc:description/>
  <dc:language>en-US</dc:language>
  <cp:lastModifiedBy>Gregg Cullen</cp:lastModifiedBy>
  <dcterms:modified xsi:type="dcterms:W3CDTF">2010-12-23T18:31:57Z</dcterms:modified>
  <cp:revision>23</cp:revision>
  <dc:subject/>
  <dc:title>Fundamental Acoustics</dc:title>
</cp:coreProperties>
</file>