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3"/>
          </p:nvPr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44"/>
          </p:nvPr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45"/>
          </p:nvPr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2BC59A-407E-484B-A05A-5F1AE053A98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EC93F0-7DEF-4B9C-A57F-018FC8A00BCE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A9DDEE-6666-4D5B-98B7-AC554391BBF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B085E8-C1B1-406C-9592-0F68B0D611ED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D8370F-F71D-4F04-A575-3E13723CCEE0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4B075B-495C-494A-B69E-DC9419F4B29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44CF1D-81AA-43A0-8320-153B4FBC7E50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AEC35C-A839-4CEB-B126-6DE2DCF67AC2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5BE95B-D17F-4CCC-8C1C-E6D9FB7FD04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A6F349-46DB-42B2-8A5F-026E160A7D0D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C800D0-2851-41EE-90F1-2679AD4D0AA5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7A9D0C-2F8F-4C80-8980-EE81FF1D046E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B2E9E9-5E1F-4BF6-BF10-8DDD76C429BE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10394B-092D-459C-B1E1-CB55DECA63CC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1FD84A-7787-4489-BB09-31B492C1A04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BD6830-51A5-41E4-9D97-F8B9BE47779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0235CE-2A43-48EF-B604-21B2734022A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56FC02-B7EE-4D91-8D56-8F42F0F498B0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6E5369-A92B-45E7-A925-F9C4BD82887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A439DA-5481-4D41-9B46-2434D0C5066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E7BF5C-36B6-450E-A00A-24181FFA86A7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853F05-07EC-43A4-BEDF-97005072FD8E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FC927D-F37B-4A9F-BB91-5AD2A1E74166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52EFD5-D408-47D8-BE13-EB8E5EF01D80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595AE6-6E2E-4E4F-935F-7C483118B549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F337F8-259B-404E-94FD-FE8095F2B010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18A21B-691E-4341-93D1-432DAD74C8D5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AD349A-F3F6-41EC-B1DF-B6EA160ADA7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929040" y="877248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9F2B88-883A-4E43-AE6A-F20A6F978B3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384-2B32-4950-BE76-022FBF2D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900-950D-460C-B23B-2563D56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30FD5-55BF-4767-BC1D-6D83C28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5C8F4-5AD6-4B11-8786-C8B6CC7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DAC33-D88F-4657-8EDA-18B80C36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B21A9-61D6-409B-A6A9-85A13928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6591C-3151-4260-8D23-8A1C3FDE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BFF76-E8C2-4FAE-AF24-13C4C59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47F7-8380-47D0-84C7-4747F7DA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1062D-56C9-45B7-AD54-4B43AFDF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58E4-9445-4A2F-A685-8E98CB5A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87096-8BAE-4FCA-AF8A-FC41BAA6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9F6-044E-479D-8CC3-79DC8371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A30B4-19AE-4F5C-9253-EF547FD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9A2C8-CE78-4CE8-A899-C759571B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389B9-7E94-4539-8C03-93674C79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F5BF4-EC12-4BAD-A0EB-C6B892F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4CA5D-DAE8-40E1-A225-EABE5529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3A359-1737-4E5D-883F-65B32A4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1A46-7BE5-4389-8405-1EE5906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414F4-F9AD-4EA3-8768-8D52A2E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D5662-49CF-43D7-9C9D-12FE76A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B022-340F-4E3F-8D5B-A985B529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136-FB59-49BC-931A-DC1463AF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3EE2A-7BFF-4F49-808E-3127AA6E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6D4F3-A1D9-4BF8-9212-8E20DC3A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2510D-95A6-44E4-BB60-BF2D1314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354F4-C745-44B3-89E7-79AE9901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4C35D-996D-4917-A750-2F5FE32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EAE53-CC52-4F6B-A0E7-FFA897F5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9FE91-A45C-42D0-8A6D-48DD113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39A27-DD5B-44BA-B410-B573ED2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3F85F-BADA-4276-B884-25C4756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6404D-C216-48C0-9011-1095011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063C-4D2D-41D6-BAD9-C2335559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10D3F-A180-4D74-B15A-17C3193F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0FE02-9793-425D-871A-A479AE09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935F-AD04-42C0-ADBF-05557B4A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A50CC-557E-444E-983C-5C9CD71C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FB683-661F-4B15-96BE-6854F0BF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CD9D2-38E6-4DAC-A732-D3EFDA7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AEAEE-2AE7-4BB0-9F9E-466466B8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C6E0-A769-4CAE-B26A-3D56231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BFF5B-BA00-4427-AA33-E17D94A2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5AB79-5009-48AF-9431-3D7FC58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5C8-22A6-4BFC-84A3-FA2B4258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F93C3-80A7-4A9B-B71D-16BFD88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50227-42C6-441D-87DC-8C33736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283C6-359E-41D2-A20F-9ECDB105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3A33F-1A34-4DB5-BBC5-67F0B9AC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99699-D25E-4E0E-ACF8-8C6AF42F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8EE98-2EFA-4B5F-92D0-CD076E68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D3D27-2B64-46D5-8A66-F6BD368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CA6CF-0752-4FED-837F-39229D2F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9AE90-E0AE-4168-8359-D44E9BA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B986E-E57C-4D01-BC26-A2BD870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CD33-7B96-43DB-89B2-8D72F49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0A866-71BC-4C1B-BCDF-7CDF21F3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79F65-6D47-4E83-A991-6595A147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E3765-6136-4FCF-9465-DAF339E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F567B-A05B-4290-8C16-E58FF50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A793B-AF46-45B7-A6DF-E1732B03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D7CAD-A4A6-4E01-9520-EDA37517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146F3-4D26-4D0F-BC8F-DA0FAD34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F2CEE-1548-42E5-A0C1-F8C5BAB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E0C00-DD73-47C8-9D05-5FE990F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8FB6C-A3FE-4908-ADEA-1AF0996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8ADD-8702-4C19-9DE0-C225DAE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82EE9-748A-4134-AEC1-8DFD14A9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6D2A4-D001-44B8-B375-B95AD1C7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9EEAC-51BE-47E6-996E-1569971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39625-0F1F-4F86-BA9E-C7219FD5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D7354-5E33-4569-A8D1-149DF90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36416-7CFD-4C90-8874-1D0C053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FD1C0-2DC2-4981-AA15-8586879A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F7434-9404-44AA-822F-A49FBB7A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7CEA0-AB19-481D-AFF6-ACFB3FBC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3132-4128-4B11-9A16-2868F52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E054-82AB-42E9-937F-021BF75F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0E58-A9CE-464F-AC30-099D1E1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1B8-8EBD-460C-A6DA-DDE79C5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437-CAC6-44CC-8431-C2B408D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A954-A867-455F-91FC-E41DE9E2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227C-77FD-45E6-86E6-20903FE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3E7A-0BAE-45B8-9777-CFF43BB7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1B82-FA3E-4EB1-97B2-C12621FC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628D-0200-4030-A36A-E1E0BD18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FFC3-3ABE-4671-89A0-68EC05E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94B6-AC9C-4F3F-88D5-5E1437CF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DCF1-D5AC-481C-BDC0-2ADD9C7A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FC3A-6225-4D61-BAB5-6F665794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7E0-6667-4300-AF90-4C53431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75BF-D245-423E-B9F4-3143450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5D3D-6361-42F8-977B-BDD7B27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E9A0-DB01-4668-A0B1-671A129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9054-98A8-47DC-B093-69C9643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D8F4-1DDF-47A6-AF69-549EE193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D564-6127-457C-A8F1-00C7A37F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41E7-0C30-4B9E-BD35-C9E8D695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C695-9664-474E-8B1E-E2E5F137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6C85-25BE-4698-B110-6F01747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4516-23AC-4DBD-B6DA-1A2E1B79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2A1-E1C8-4680-A824-7F9B835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B6A4-7C08-4993-B93B-EACD3C3F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EF647-4D59-4376-8541-3250979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B708B-E1C0-43FD-82F2-3A39A2D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B749-D813-4F58-9BF8-F6C8A97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19C1-578D-45F5-897D-6B69B536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CF2E-2B23-466F-96B8-3AFBFACA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3543-8043-460E-876D-C509612C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0AEE-1676-4565-97FF-807457D7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9A99-6C95-4B62-BAF2-D7A28112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9E4B-A0DD-4D56-B7CD-DEBFF82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BD0-23E8-477A-B71B-197F9E9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5427-E900-4DF5-8E9C-FD356065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A5BE-5704-413F-8C16-92450ACA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CD44-D949-490B-82C4-C5CDFA73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8490-4D70-4497-ADEA-4355FE9E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67C3A-2DE4-4754-B84F-581D6F9C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D1CD4-B005-4E2D-8815-8B00DD0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D298-C555-421E-A508-CF78BB32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1C65-FB3C-468E-A85E-134ACD2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7534-48B6-4C8B-86BB-6DA31B28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77E8-E0D8-4042-A2F8-1C608890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AB8-FA8F-4379-8F84-6659E76F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A20C-FAE4-4121-A112-F098EB21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0B28-3093-4C2B-90C1-F071DB67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BC83-137B-4CF7-9BC2-42EA7EA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DAE7-61D2-47BD-9394-3C96D54B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179C-91A9-44E1-A67F-4C65A9F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E6FD-D077-4D66-A690-AB2079A8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FCB83-6576-4415-9359-59827E72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96DEE-826F-418E-911E-DD8CEAA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06FB-FCE4-40EF-B91E-485FE5C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5DFB2-AF84-454C-B5CD-45C8B8B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4E7-41F4-45C4-84A5-F59E798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B86C-0336-4120-801D-03A1CB8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46DC7-B02D-4582-9A04-DF92919A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BABF7-9BC0-4145-A927-4BD00078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D7E1C-85E7-4EE5-ADDD-D5F3694A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72E8-9431-4C66-949E-DE00E20C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397B-8B9B-4F3B-B86D-3A4DEBF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76C2D-93AE-457A-9E55-8E92DF8F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C25E-D994-4BDA-B3A3-83B7DE9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358D4-8A52-431E-8EDB-78BE4060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D98F7-1487-4A81-B781-679F85C6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D1D-4A8E-4FFB-BF3A-4E8D587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A4B8-161F-4C1C-99FF-613E8EC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0570-FFBC-4873-B2A1-CC8F24D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3CB71-713F-4BA5-8834-60D83CF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CD932-A845-43A1-9533-0810DB4D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4612-B850-467A-B2B5-5E32149E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2C84E-8B40-4206-AEA6-006A8303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EF471-954A-4536-8BE5-531B5B0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F8CA1-64E6-40A4-BEEB-DA8F7B9E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55490-9E89-4221-9095-109CB489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254BA-EA2A-47F8-AD4A-F26EF794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322-D301-44EF-85F4-9269739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2732-B671-4BA3-A9DD-46AA558A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992D-8231-454B-A788-C7FF882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16B6-4BCD-4494-9F94-288777E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0106-DAC6-4E0E-B8C3-436E971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34D7D-1235-49AA-8992-FB30F1BA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C38D7-0EDC-4750-A6C3-E5BB723C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DC515-1049-4A3C-B276-704CA105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2211A-50B6-4ABA-B6E4-AF94676B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6B6EF-F87B-4841-8924-EBE40FEE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8A7AF-1C82-4A53-8825-2E7E15C8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129240" y="-4680"/>
                <a:ext cx="889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125280" y="1697040"/>
                <a:ext cx="889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63800" y="1226520"/>
                <a:ext cx="889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63800" y="91080"/>
                <a:ext cx="889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125280" y="989640"/>
                <a:ext cx="889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127080" y="642600"/>
                <a:ext cx="889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128160" y="334440"/>
                <a:ext cx="90144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79560" y="3857760"/>
                <a:ext cx="889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118080" y="3536640"/>
                <a:ext cx="889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118080" y="2397600"/>
                <a:ext cx="889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118080" y="3192840"/>
                <a:ext cx="889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118080" y="2931480"/>
                <a:ext cx="889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118080" y="2578320"/>
                <a:ext cx="9014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889880"/>
                <a:ext cx="889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93960" y="4438080"/>
                <a:ext cx="889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79560" y="5545080"/>
                <a:ext cx="889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1000" y="6234480"/>
                <a:ext cx="345960" cy="891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57440"/>
                <a:ext cx="889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08960"/>
                <a:ext cx="9014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CF4A-226A-49F5-95CF-B8A0929B04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Picture 30" descr="starw_b"/>
          <p:cNvPicPr/>
          <p:nvPr/>
        </p:nvPicPr>
        <p:blipFill>
          <a:blip r:embed="rId3"/>
          <a:stretch/>
        </p:blipFill>
        <p:spPr>
          <a:xfrm>
            <a:off x="7391520" y="6040440"/>
            <a:ext cx="160020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C717-267E-4034-B577-B0F44B86CF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0EE-2D6E-432F-A4CF-8079DFB82D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5E6-7938-4E56-BFDF-17E92C50A4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642-0CD3-42D1-A5E1-ACDBDE65C2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F559-FB25-4D01-A660-2D323A7401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8240"/>
              <a:ext cx="9146880" cy="1023120"/>
              <a:chOff x="-3240" y="2478240"/>
              <a:chExt cx="9146880" cy="10231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103280" y="-1591200"/>
                <a:ext cx="961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65280" y="2634120"/>
                <a:ext cx="961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604200" y="2633400"/>
                <a:ext cx="961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55520" y="2805840"/>
                <a:ext cx="961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108560" y="2734920"/>
                <a:ext cx="961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61000" y="2680920"/>
                <a:ext cx="961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907040" y="2764440"/>
                <a:ext cx="97416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106800" y="2627640"/>
                <a:ext cx="961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607920" y="2625480"/>
                <a:ext cx="961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62480" y="2798280"/>
                <a:ext cx="9619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13360" y="2727000"/>
                <a:ext cx="961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68680" y="2675160"/>
                <a:ext cx="961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907880" y="2715840"/>
                <a:ext cx="97416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731600" y="2634120"/>
                <a:ext cx="961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33080" y="2633400"/>
                <a:ext cx="961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928800" y="2779920"/>
                <a:ext cx="961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8240"/>
                <a:ext cx="46152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135000" y="2675160"/>
                <a:ext cx="961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36040" y="2715480"/>
                <a:ext cx="9741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35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180600"/>
              <a:ext cx="9144360" cy="2916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12E-26C9-435D-A04D-4174FC4731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BF4-2F01-4FFB-98E8-8E283BAB87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711-2D60-4001-BE7C-02917D261D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7B82-9AD8-4FB1-B1B1-9AE7314D38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FF2-9925-46D2-892A-5A53CCB70B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B81-ABF1-47D7-8ECD-918CE9CC89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1F80-5CF2-424A-893A-8284442E36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3276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0059-A3FD-4F85-A261-408362EAC5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8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0" y="4082760"/>
            <a:ext cx="91440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urostile"/>
              </a:rPr>
              <a:t>Demountable Interior Walls</a:t>
            </a:r>
            <a:br>
              <a:rPr sz="5400"/>
            </a:b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…creating a more flexible sustainable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0" y="185220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0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duce Energy Co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0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Allow Natural Light to Flow Through the Space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0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nnect Employees to the Environment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Health and Safety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1252080" y="4492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Eurostile"/>
                <a:ea typeface="Times New Roman"/>
              </a:rPr>
              <a:t>Strategy to Introduce Natural Light into Space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7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11200" y="493560"/>
            <a:ext cx="7732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Eurostile"/>
                <a:ea typeface="Times New Roman"/>
              </a:rPr>
              <a:t>Ideas in Introducing Natural Light into Space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77" name="Picture 10" descr="CaisedeDepot.jpg"/>
          <p:cNvPicPr/>
          <p:nvPr/>
        </p:nvPicPr>
        <p:blipFill>
          <a:blip r:embed="rId2"/>
          <a:stretch/>
        </p:blipFill>
        <p:spPr>
          <a:xfrm>
            <a:off x="5992920" y="4221000"/>
            <a:ext cx="2595600" cy="2637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1" descr="Starwall-Boston.jpg"/>
          <p:cNvPicPr/>
          <p:nvPr/>
        </p:nvPicPr>
        <p:blipFill>
          <a:blip r:embed="rId3"/>
          <a:stretch/>
        </p:blipFill>
        <p:spPr>
          <a:xfrm>
            <a:off x="1679400" y="1390680"/>
            <a:ext cx="2695680" cy="2614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7" descr="frosted_glassfront2.jpg"/>
          <p:cNvPicPr/>
          <p:nvPr/>
        </p:nvPicPr>
        <p:blipFill>
          <a:blip r:embed="rId4"/>
          <a:stretch/>
        </p:blipFill>
        <p:spPr>
          <a:xfrm>
            <a:off x="5975280" y="1360440"/>
            <a:ext cx="2632320" cy="26319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" descr="Burwood008.jpg"/>
          <p:cNvPicPr/>
          <p:nvPr/>
        </p:nvPicPr>
        <p:blipFill>
          <a:blip r:embed="rId5"/>
          <a:stretch/>
        </p:blipFill>
        <p:spPr>
          <a:xfrm>
            <a:off x="1693800" y="4192560"/>
            <a:ext cx="38768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66320" y="888480"/>
            <a:ext cx="8977320" cy="59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25640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82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240" indent="-428040">
              <a:lnSpc>
                <a:spcPct val="10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One Contractor to buil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-42804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Fewer workers on jobsite (example: drywallers, painters, glazers, etc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-42804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Less coordination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8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8240" indent="-428040">
              <a:lnSpc>
                <a:spcPct val="110000"/>
              </a:lnSpc>
              <a:spcBef>
                <a:spcPts val="675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Eurostile"/>
                <a:ea typeface="Times New Roman"/>
              </a:rPr>
              <a:t>Supports Integrated Project Delivery Meth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-428040">
              <a:lnSpc>
                <a:spcPct val="11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Allow compression of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-428040">
              <a:lnSpc>
                <a:spcPct val="11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Building delivered to customer more quick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-428040">
              <a:lnSpc>
                <a:spcPct val="11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Allows reduction of general conditions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01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82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252080" y="3808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Ease and Speed of Constr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83" name="Picture 9" descr="Confusion.jpg"/>
          <p:cNvPicPr/>
          <p:nvPr/>
        </p:nvPicPr>
        <p:blipFill>
          <a:blip r:embed="rId2"/>
          <a:stretch/>
        </p:blipFill>
        <p:spPr>
          <a:xfrm>
            <a:off x="6375240" y="2193840"/>
            <a:ext cx="1932120" cy="20383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8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ECA7-7E03-4469-A6C3-5A3FA0886A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A Better Approach to Interior Wall Construction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113976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15272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7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-392760">
              <a:lnSpc>
                <a:spcPct val="11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Drywall constr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-392760">
              <a:lnSpc>
                <a:spcPct val="11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itized Demountable Wall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(First Generation)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-392760">
              <a:lnSpc>
                <a:spcPct val="11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Demountable Walls Pre-engineered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(Second Generation)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-392760">
              <a:lnSpc>
                <a:spcPct val="110000"/>
              </a:lnSpc>
              <a:spcBef>
                <a:spcPts val="624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New Generation Demountable Walls… </a:t>
            </a:r>
            <a:br>
              <a:rPr sz="2500"/>
            </a:b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“Field Fit” Capa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1352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19" descr="2nd.jpg"/>
          <p:cNvPicPr/>
          <p:nvPr/>
        </p:nvPicPr>
        <p:blipFill>
          <a:blip r:embed="rId1"/>
          <a:stretch/>
        </p:blipFill>
        <p:spPr>
          <a:xfrm>
            <a:off x="0" y="3759120"/>
            <a:ext cx="4464000" cy="3098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"/>
          <p:cNvPicPr/>
          <p:nvPr/>
        </p:nvPicPr>
        <p:blipFill>
          <a:blip r:embed="rId2"/>
          <a:stretch/>
        </p:blipFill>
        <p:spPr>
          <a:xfrm>
            <a:off x="5740560" y="3632040"/>
            <a:ext cx="2027160" cy="320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Basement001.jpg"/>
          <p:cNvPicPr/>
          <p:nvPr/>
        </p:nvPicPr>
        <p:blipFill>
          <a:blip r:embed="rId3"/>
          <a:stretch/>
        </p:blipFill>
        <p:spPr>
          <a:xfrm>
            <a:off x="174600" y="752400"/>
            <a:ext cx="4246560" cy="2743200"/>
          </a:xfrm>
          <a:prstGeom prst="rect">
            <a:avLst/>
          </a:prstGeom>
          <a:ln w="0">
            <a:noFill/>
          </a:ln>
        </p:spPr>
      </p:pic>
      <p:sp>
        <p:nvSpPr>
          <p:cNvPr id="691" name="Slide Number Placeholder 5"/>
          <p:cNvSpPr/>
          <p:nvPr/>
        </p:nvSpPr>
        <p:spPr>
          <a:xfrm>
            <a:off x="2755800" y="6608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01A-B234-40E5-BF08-971BF7217C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92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A Better Approach to Interior Wall Construction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-625320" y="2971800"/>
            <a:ext cx="5000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Eurostile"/>
                <a:ea typeface="Times New Roman"/>
              </a:rPr>
              <a:t>Drywall constru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11" descr="ujnit.jpg"/>
          <p:cNvPicPr/>
          <p:nvPr/>
        </p:nvPicPr>
        <p:blipFill>
          <a:blip r:embed="rId4"/>
          <a:stretch/>
        </p:blipFill>
        <p:spPr>
          <a:xfrm>
            <a:off x="5208480" y="61740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2"/>
          <p:cNvSpPr/>
          <p:nvPr/>
        </p:nvSpPr>
        <p:spPr>
          <a:xfrm>
            <a:off x="3449520" y="2995560"/>
            <a:ext cx="5867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itized (first genera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3565440" y="6453360"/>
            <a:ext cx="58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…</a:t>
            </a:r>
            <a:r>
              <a:rPr b="0" i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oduct fits to build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5"/>
          <p:cNvSpPr/>
          <p:nvPr/>
        </p:nvSpPr>
        <p:spPr>
          <a:xfrm>
            <a:off x="-1319040" y="3652920"/>
            <a:ext cx="61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e-engine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(second gene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6"/>
          <p:cNvSpPr/>
          <p:nvPr/>
        </p:nvSpPr>
        <p:spPr>
          <a:xfrm>
            <a:off x="3703680" y="6137280"/>
            <a:ext cx="58690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1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Truly Demountable “Field F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traight Connector 18"/>
          <p:cNvSpPr/>
          <p:nvPr/>
        </p:nvSpPr>
        <p:spPr>
          <a:xfrm flipH="1">
            <a:off x="4478400" y="706320"/>
            <a:ext cx="1440" cy="596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23"/>
          <p:cNvSpPr/>
          <p:nvPr/>
        </p:nvSpPr>
        <p:spPr>
          <a:xfrm>
            <a:off x="173160" y="3600360"/>
            <a:ext cx="871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6295-1DF3-4E6F-B4D0-89BEBFA802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03120" y="33480"/>
            <a:ext cx="794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Drywall Constr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0" y="618840"/>
            <a:ext cx="914400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21752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pproximately 85% of all building’s interior dividing walls in the U.S. are constructed in this fashion!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33720" indent="-41472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European market is at approximately 15 –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Total flexibility… built per specification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TC rating = low 40’s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Creates Significant waste and debris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Lowest firs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5" descr="Construction-waste.jpg"/>
          <p:cNvPicPr/>
          <p:nvPr/>
        </p:nvPicPr>
        <p:blipFill>
          <a:blip r:embed="rId2"/>
          <a:stretch/>
        </p:blipFill>
        <p:spPr>
          <a:xfrm>
            <a:off x="5724360" y="5256360"/>
            <a:ext cx="243684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7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84400" y="1719360"/>
            <a:ext cx="79596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CA" sz="36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itized Demountable Walls</a:t>
            </a:r>
            <a:br>
              <a:rPr sz="3600"/>
            </a:br>
            <a:br>
              <a:rPr sz="3600"/>
            </a:br>
            <a:r>
              <a:rPr b="1" lang="en-CA" sz="3600" spc="-1" strike="noStrike">
                <a:solidFill>
                  <a:srgbClr val="0033cc"/>
                </a:solidFill>
                <a:latin typeface="Eurostile"/>
                <a:ea typeface="Times New Roman"/>
              </a:rPr>
              <a:t>vs.</a:t>
            </a:r>
            <a:br>
              <a:rPr sz="3600"/>
            </a:br>
            <a:br>
              <a:rPr sz="3600"/>
            </a:br>
            <a:r>
              <a:rPr b="0" lang="en-CA" sz="36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e-Engineered Demountable Walls</a:t>
            </a:r>
            <a:br>
              <a:rPr sz="3600"/>
            </a:br>
            <a:r>
              <a:rPr b="1" lang="en-CA" sz="3600" spc="-1" strike="noStrike">
                <a:solidFill>
                  <a:srgbClr val="0033cc"/>
                </a:solidFill>
                <a:latin typeface="Eurostile"/>
                <a:ea typeface="Times New Roman"/>
              </a:rPr>
              <a:t> </a:t>
            </a:r>
            <a:br>
              <a:rPr sz="3600"/>
            </a:br>
            <a:r>
              <a:rPr b="1" lang="en-CA" sz="3600" spc="-1" strike="noStrike">
                <a:solidFill>
                  <a:srgbClr val="0033cc"/>
                </a:solidFill>
                <a:latin typeface="Eurostile"/>
                <a:ea typeface="Times New Roman"/>
              </a:rPr>
              <a:t>vs. </a:t>
            </a:r>
            <a:br>
              <a:rPr sz="3600"/>
            </a:br>
            <a:br>
              <a:rPr sz="3600"/>
            </a:br>
            <a:r>
              <a:rPr b="0" lang="en-CA" sz="3600" spc="-1" strike="noStrike">
                <a:solidFill>
                  <a:srgbClr val="0033cc"/>
                </a:solidFill>
                <a:latin typeface="Eurostile"/>
                <a:ea typeface="Times New Roman"/>
              </a:rPr>
              <a:t>Demountable Walls “Field Fit”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1171440" y="5678640"/>
            <a:ext cx="79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What is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952-2307-4D81-BBD8-BCE0B2D0AE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0" y="49212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2" marL="101016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01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ost recognized and widely used in demountable wal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anufactured to exact specification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TC rating mid 30’s to low 40’s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Quick installation… “one trip”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inimized interruption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ccelerated depreciation schedule for tax benefi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4416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Highest firs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itized Wall (First Genera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E1E-0C6B-41AA-A1D0-92BBA4727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0" y="70920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2" marL="111384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-37944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e-Measured, Pre-cut, machined, drilled, etc., extrusions, framing, panels, glazing, etc., readied for assembly in the field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-37944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nstruction of panel is deferred to the field and assembled in a “stick built” approach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-37944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ovides for change within specific parameters usually solid panels and glass only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-37944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Significant and specific parts and pie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5880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ntinued &gt;</a:t>
            </a: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	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Demountable Walls…Pre-engineered</a:t>
            </a:r>
            <a:br>
              <a:rPr sz="32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(Second Generatio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0" y="136980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20456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TC rating mid 30’s to low 40’s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55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ovide easier logistical movement from point of receipt to installation site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040" indent="-410400">
              <a:lnSpc>
                <a:spcPct val="110000"/>
              </a:lnSpc>
              <a:spcBef>
                <a:spcPts val="45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Easier to get on tighter elevators and or tighter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Demountable Walls…Pre-engineered</a:t>
            </a:r>
            <a:br>
              <a:rPr sz="32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(Second Generatio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B47-99DF-46ED-8F7B-C4298AED57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71440" y="33480"/>
            <a:ext cx="7972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Not Using Demountable Wa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3600" y="1143000"/>
            <a:ext cx="78804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2" marL="101016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016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What the customer s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01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01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0" algn="just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17715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12960" indent="-441360">
              <a:lnSpc>
                <a:spcPct val="150000"/>
              </a:lnSpc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Not as flexible as you say they a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50000"/>
              </a:lnSpc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Too expens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50000"/>
              </a:lnSpc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Not enough priv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00000"/>
              </a:lnSpc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Can’t fit into elevators…hard to place in stor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50000"/>
              </a:lnSpc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Don’t like the loo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50000"/>
              </a:lnSpc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0" y="94248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112680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680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-3837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Most current approach to demountable wal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-3837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Ability to accommodate field changes or adjustments to field dimension changes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-3837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Minimized interruptions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-3837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Accelerated depreciation schedule for tax benefit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-38376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Some Manufacturers offer minimal kit of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383760">
              <a:lnSpc>
                <a:spcPct val="100000"/>
              </a:lnSpc>
              <a:spcBef>
                <a:spcPts val="451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Easy to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38376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No special orders with long lead times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-3837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Quick installation… “One trip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ntinued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77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New Generation Demountable Wall... Demountable with Field F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D590-AC72-4941-9DBE-822E18829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7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7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New Generation Demountable Wall... Demountable with Field F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0" y="734760"/>
            <a:ext cx="91440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13976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51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5160" indent="-38808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Panels can be easily changed on site after initial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-388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Glass to solid… back to gla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-388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Move do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-388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Change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5160" indent="-3880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Demountable components provide for easy recycling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5160" indent="-3880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bility to utilize various wall board material and substrates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5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5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7" descr="mods.jpg"/>
          <p:cNvPicPr/>
          <p:nvPr/>
        </p:nvPicPr>
        <p:blipFill>
          <a:blip r:embed="rId2"/>
          <a:stretch/>
        </p:blipFill>
        <p:spPr>
          <a:xfrm>
            <a:off x="3216240" y="3235320"/>
            <a:ext cx="4191120" cy="1494000"/>
          </a:xfrm>
          <a:prstGeom prst="rect">
            <a:avLst/>
          </a:prstGeom>
          <a:ln w="0">
            <a:noFill/>
          </a:ln>
        </p:spPr>
      </p:pic>
      <p:sp>
        <p:nvSpPr>
          <p:cNvPr id="721" name="Slide Number Placeholder 4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2FAD-2A4B-4F26-A7C6-01AD0830B5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7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9C2-E838-47F3-A2A7-BCBF2923BE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New Trends in Demountable Walls</a:t>
            </a:r>
            <a:br>
              <a:rPr sz="3200"/>
            </a:b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Create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0" y="942840"/>
            <a:ext cx="91440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2" marL="104904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04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-3574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-3574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ustainability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-3574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able investmen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-3574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esthetics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-3574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bility to change during and after instal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-35748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mpetitive first c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ntinued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684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7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1F35-064E-4DC2-8B50-29CD9B9489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0" y="942840"/>
            <a:ext cx="91440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106200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-36180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limited desig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-36180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Total customization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-36180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limited power &amp; data flexibility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-361800">
              <a:lnSpc>
                <a:spcPct val="11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Disassemble and rebuild into any configuration in any sp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ntinued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64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New Trends in Demountable Walls</a:t>
            </a:r>
            <a:br>
              <a:rPr sz="3200"/>
            </a:b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Create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F478-71CC-4E59-AAE9-250F0E761C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New Trends in Demountable Wa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0640" y="942840"/>
            <a:ext cx="852336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2" marL="10360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0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0080" indent="-35280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inimal kit of parts requir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Ceiling and floor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Vertical and horizontal stu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Glass b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versible door and hing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Wall board and glass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In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0080" indent="-35280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coustics ha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Solid walls can achieve mid-to-upper 40’s STC ratings (sound masking, insulation above ceiling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5840" indent="-3528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Double pane glass provides improved STC rating with glass element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0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0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6519960" y="13701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Easy to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7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7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7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7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0" y="136980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2" marL="11008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-37512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coustics deal with complex environments and infinite number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-37512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Poor acoustics can ruin an otherwise beautiful wall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-375120">
              <a:lnSpc>
                <a:spcPct val="100000"/>
              </a:lnSpc>
              <a:spcBef>
                <a:spcPts val="601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Understanding NRC &amp; STC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0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2080" y="334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A Word About Acoustics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when considering demountable wa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3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26F-B06C-4540-B928-93DB1D0E61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18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218880"/>
            <a:ext cx="9144000" cy="10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66"/>
                </a:solidFill>
                <a:latin typeface="Eurostile"/>
                <a:ea typeface="Times New Roman"/>
              </a:rPr>
              <a:t>Primary Te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79040" y="1539360"/>
            <a:ext cx="618804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STC – Sound Transmission Cl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Number rating of a wall or structures ability to block the transfer of s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NRC – Noise Reduct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Number rating which categorizes the sound absorptive or reflective properties of a material o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Content Placeholder 16" descr="NRC.png"/>
          <p:cNvPicPr/>
          <p:nvPr/>
        </p:nvPicPr>
        <p:blipFill>
          <a:blip r:embed="rId3"/>
          <a:srcRect l="-1456" t="0" r="-4759" b="-2681"/>
          <a:stretch/>
        </p:blipFill>
        <p:spPr>
          <a:xfrm>
            <a:off x="7032600" y="381312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STC.png"/>
          <p:cNvPicPr/>
          <p:nvPr/>
        </p:nvPicPr>
        <p:blipFill>
          <a:blip r:embed="rId4"/>
          <a:srcRect l="0" t="0" r="50557" b="40782"/>
          <a:stretch/>
        </p:blipFill>
        <p:spPr>
          <a:xfrm>
            <a:off x="7047000" y="1311120"/>
            <a:ext cx="16002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7" descr="STC.png"/>
          <p:cNvPicPr/>
          <p:nvPr/>
        </p:nvPicPr>
        <p:blipFill>
          <a:blip r:embed="rId3"/>
          <a:srcRect l="0" t="0" r="50557" b="40782"/>
          <a:stretch/>
        </p:blipFill>
        <p:spPr>
          <a:xfrm>
            <a:off x="6829560" y="2482920"/>
            <a:ext cx="2106360" cy="251784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66"/>
                </a:solidFill>
                <a:latin typeface="Eurostile"/>
                <a:ea typeface="Times New Roman"/>
              </a:rPr>
              <a:t>STC – Privacy Anyon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779040" y="1233360"/>
            <a:ext cx="61880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STC – Sound Transmissio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It is the primary way to infer how isolated a room or environment is relative to other room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Eurostile"/>
              </a:rPr>
              <a:t>General Guidelines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30-35 STC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 = Loud talking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40-50 STC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 = Loud talking not easily understood but may have occupant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60+ STC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 = Loud talking not aud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7" descr="STC.png"/>
          <p:cNvPicPr/>
          <p:nvPr/>
        </p:nvPicPr>
        <p:blipFill>
          <a:blip r:embed="rId3"/>
          <a:srcRect l="0" t="0" r="50557" b="40782"/>
          <a:stretch/>
        </p:blipFill>
        <p:spPr>
          <a:xfrm>
            <a:off x="6908760" y="2511360"/>
            <a:ext cx="2027160" cy="25002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66"/>
                </a:solidFill>
                <a:latin typeface="Eurostile"/>
                <a:ea typeface="Times New Roman"/>
              </a:rPr>
              <a:t>STC – Design with Confi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779040" y="1233360"/>
            <a:ext cx="61880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Eurostile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Most codes require minimum of 40 STC in commercial insta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It is harder to block low frequencies than high frequencies as the wave form is much more powerful and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Adding mass to the partition wall along with decoupling and insulation will vastly improve S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Eurostile"/>
              </a:rPr>
              <a:t>Beware of flanking path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66"/>
                </a:solidFill>
                <a:latin typeface="Eurostile"/>
                <a:ea typeface="Times New Roman"/>
              </a:rPr>
              <a:t>STC – Flanking Path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779040" y="1533600"/>
            <a:ext cx="61880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Common Flank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Eurostile"/>
              </a:rPr>
              <a:t>Ceiling and Floor Jois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Common Duc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Eurostile"/>
              </a:rPr>
              <a:t>Missing or Poor Fitting Door Swe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Eurostile"/>
              </a:rPr>
              <a:t>Back-to-Back Electrical or Utility boxes in same stud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Eurostile"/>
              </a:rPr>
              <a:t>Outlet g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Flanking path.png"/>
          <p:cNvPicPr/>
          <p:nvPr/>
        </p:nvPicPr>
        <p:blipFill>
          <a:blip r:embed="rId3"/>
          <a:stretch/>
        </p:blipFill>
        <p:spPr>
          <a:xfrm>
            <a:off x="6743880" y="2463840"/>
            <a:ext cx="2030400" cy="2536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BBDF-ED41-48A3-8750-07A05C7D7A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96640" y="66600"/>
            <a:ext cx="7947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0" y="132228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 marL="17038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5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Fluid architectural elements allow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50000"/>
              </a:lnSpc>
              <a:spcBef>
                <a:spcPts val="726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Eurostile"/>
                <a:ea typeface="Times New Roman"/>
              </a:rPr>
              <a:t>Better return on invest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50000"/>
              </a:lnSpc>
              <a:spcBef>
                <a:spcPts val="726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Eurostile"/>
                <a:ea typeface="Times New Roman"/>
              </a:rPr>
              <a:t>Sustainable architectural el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50000"/>
              </a:lnSpc>
              <a:spcBef>
                <a:spcPts val="726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duce landfill waste from dryw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5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Strategy to introduce natural light into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03880" indent="-414720">
              <a:lnSpc>
                <a:spcPct val="150000"/>
              </a:lnSpc>
              <a:spcBef>
                <a:spcPts val="726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Eurostile"/>
                <a:ea typeface="Times New Roman"/>
              </a:rPr>
              <a:t>Ease and speed of constru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66"/>
                </a:solidFill>
                <a:latin typeface="Eurostile"/>
                <a:ea typeface="Times New Roman"/>
              </a:rPr>
              <a:t>STC – Improve Your Ratin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53800" y="1117080"/>
            <a:ext cx="7026120" cy="53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Gain Weight and Is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Decouple and add length to the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Double the Wall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Insulate the Stud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Insulate the ceiling plenum &amp; floor pl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Seal all flanking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In extremely sensitive areas use double walls with dead head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Plan ahead for today &amp;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6" descr="Flanking path.png"/>
          <p:cNvPicPr/>
          <p:nvPr/>
        </p:nvPicPr>
        <p:blipFill>
          <a:blip r:embed="rId3"/>
          <a:stretch/>
        </p:blipFill>
        <p:spPr>
          <a:xfrm>
            <a:off x="6881760" y="2120760"/>
            <a:ext cx="3808440" cy="3940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003366"/>
                </a:solidFill>
                <a:latin typeface="Eurostile"/>
                <a:ea typeface="Times New Roman"/>
              </a:rPr>
              <a:t>NRC – What’s all the Noise About?</a:t>
            </a:r>
            <a:endParaRPr b="0" lang="en-US" sz="4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53800" y="2077560"/>
            <a:ext cx="702612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Noise Reduct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Number rating which categorizes the sound absorptive or reflective properties of a material o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Content Placeholder 16" descr="NRC.png"/>
          <p:cNvPicPr/>
          <p:nvPr/>
        </p:nvPicPr>
        <p:blipFill>
          <a:blip r:embed="rId3"/>
          <a:srcRect l="-1456" t="0" r="38" b="-2681"/>
          <a:stretch/>
        </p:blipFill>
        <p:spPr>
          <a:xfrm>
            <a:off x="6597720" y="3035160"/>
            <a:ext cx="201276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003366"/>
                </a:solidFill>
                <a:latin typeface="Eurostile"/>
                <a:ea typeface="Times New Roman"/>
              </a:rPr>
              <a:t>NRC – Common Ratings</a:t>
            </a:r>
            <a:endParaRPr b="0" lang="en-US" sz="4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53800" y="2077560"/>
            <a:ext cx="702612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Absorptive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Brick                     .00 - 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Wood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         .05 - 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Heavy Carpet       .30 - .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18oz Drapery       .60 - .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rostile"/>
              </a:rPr>
              <a:t>Fiberglass 3.5”     .80 - 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Content Placeholder 16" descr="NRC.png"/>
          <p:cNvPicPr/>
          <p:nvPr/>
        </p:nvPicPr>
        <p:blipFill>
          <a:blip r:embed="rId3"/>
          <a:srcRect l="-1456" t="0" r="38" b="-2681"/>
          <a:stretch/>
        </p:blipFill>
        <p:spPr>
          <a:xfrm>
            <a:off x="6550200" y="2560680"/>
            <a:ext cx="201276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5" descr="Sound Icon.png"/>
          <p:cNvPicPr/>
          <p:nvPr/>
        </p:nvPicPr>
        <p:blipFill>
          <a:blip r:embed="rId2"/>
          <a:stretch/>
        </p:blipFill>
        <p:spPr>
          <a:xfrm>
            <a:off x="863640" y="517680"/>
            <a:ext cx="7226280" cy="553716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66"/>
                </a:solidFill>
                <a:latin typeface="Eurostile"/>
                <a:ea typeface="Times New Roman"/>
              </a:rPr>
              <a:t>NRC – Control the Refle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254160" y="1255680"/>
            <a:ext cx="68292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Eurostile"/>
              </a:rPr>
              <a:t>Don’t Strive for Perfectly Absorb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Most people do not desire a room that is totally absor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A little reverb is usually a good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Angular geometry can be a good alternative when highly absorbent materials can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Avoid parallel low NRC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Content Placeholder 16" descr="NRC.png"/>
          <p:cNvPicPr/>
          <p:nvPr/>
        </p:nvPicPr>
        <p:blipFill>
          <a:blip r:embed="rId3"/>
          <a:srcRect l="-1456" t="0" r="38" b="-2681"/>
          <a:stretch/>
        </p:blipFill>
        <p:spPr>
          <a:xfrm>
            <a:off x="6794640" y="2001960"/>
            <a:ext cx="2012760" cy="2593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3040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Eurostile"/>
              </a:rPr>
              <a:t>Sample Demountable Wall Applic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Burwood001.jpg"/>
          <p:cNvPicPr/>
          <p:nvPr/>
        </p:nvPicPr>
        <p:blipFill>
          <a:blip r:embed="rId1"/>
          <a:stretch/>
        </p:blipFill>
        <p:spPr>
          <a:xfrm>
            <a:off x="355680" y="609480"/>
            <a:ext cx="8462880" cy="564516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3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6F53-D272-4D57-83CC-E0B8DFC9C2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ConferenceFrontsAnodizedNewEnglandClient.jpg"/>
          <p:cNvPicPr/>
          <p:nvPr/>
        </p:nvPicPr>
        <p:blipFill>
          <a:blip r:embed="rId1"/>
          <a:stretch/>
        </p:blipFill>
        <p:spPr>
          <a:xfrm>
            <a:off x="162000" y="125280"/>
            <a:ext cx="8808840" cy="657540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5DA7-C1AD-4C55-80AF-DB60682E5A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Project009CorridorwithOpaquesegent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4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BE0A-BF35-41D1-92FB-EE37FF5315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3" descr="VariedFrontsGreystaggeredMED2020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6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5B54-9421-40FD-9A6B-BD6B68E7F4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8" descr="starwall07montreal.JPG"/>
          <p:cNvPicPr/>
          <p:nvPr/>
        </p:nvPicPr>
        <p:blipFill>
          <a:blip r:embed="rId1"/>
          <a:stretch/>
        </p:blipFill>
        <p:spPr>
          <a:xfrm>
            <a:off x="2557440" y="115920"/>
            <a:ext cx="4178160" cy="659268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34A4-0158-46D4-9146-2219A8107A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845-1DF1-4B0B-B761-DB9440DCB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1139760"/>
            <a:ext cx="91440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5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mpany’s space requirement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5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ovide for natural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0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Accommodating for the needs of worker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0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Creating collaborative spaces and team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41360">
              <a:lnSpc>
                <a:spcPct val="150000"/>
              </a:lnSpc>
              <a:spcBef>
                <a:spcPts val="700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Changes after initial 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252080" y="3808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Benefits of Fluid Architectural Ele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3" descr="butt-glazed_glass_door_offices.jpg"/>
          <p:cNvPicPr/>
          <p:nvPr/>
        </p:nvPicPr>
        <p:blipFill>
          <a:blip r:embed="rId1"/>
          <a:stretch/>
        </p:blipFill>
        <p:spPr>
          <a:xfrm>
            <a:off x="509760" y="154080"/>
            <a:ext cx="8135640" cy="6541920"/>
          </a:xfrm>
          <a:prstGeom prst="rect">
            <a:avLst/>
          </a:prstGeom>
          <a:ln w="0">
            <a:noFill/>
          </a:ln>
        </p:spPr>
      </p:pic>
      <p:sp>
        <p:nvSpPr>
          <p:cNvPr id="780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0C3-32DB-40B2-8A52-522E2808F5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5" descr="frosted_glass_curved_wall.jpg"/>
          <p:cNvPicPr/>
          <p:nvPr/>
        </p:nvPicPr>
        <p:blipFill>
          <a:blip r:embed="rId1"/>
          <a:stretch/>
        </p:blipFill>
        <p:spPr>
          <a:xfrm>
            <a:off x="1793880" y="74520"/>
            <a:ext cx="5295960" cy="666108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F79-A0C8-4A91-8042-B6D86C3CCD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4" descr="butt-seamed_glass_front_with_double_doors.jpg"/>
          <p:cNvPicPr/>
          <p:nvPr/>
        </p:nvPicPr>
        <p:blipFill>
          <a:blip r:embed="rId1"/>
          <a:stretch/>
        </p:blipFill>
        <p:spPr>
          <a:xfrm>
            <a:off x="220680" y="247680"/>
            <a:ext cx="8726400" cy="6353280"/>
          </a:xfrm>
          <a:prstGeom prst="rect">
            <a:avLst/>
          </a:prstGeom>
          <a:ln w="0">
            <a:noFill/>
          </a:ln>
        </p:spPr>
      </p:pic>
      <p:sp>
        <p:nvSpPr>
          <p:cNvPr id="784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66E-A281-4D59-A68C-8E45C02550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Burwood007.jpg"/>
          <p:cNvPicPr/>
          <p:nvPr/>
        </p:nvPicPr>
        <p:blipFill>
          <a:blip r:embed="rId1"/>
          <a:stretch/>
        </p:blipFill>
        <p:spPr>
          <a:xfrm>
            <a:off x="463680" y="587520"/>
            <a:ext cx="8191440" cy="5464080"/>
          </a:xfrm>
          <a:prstGeom prst="rect">
            <a:avLst/>
          </a:prstGeom>
          <a:ln w="0">
            <a:noFill/>
          </a:ln>
        </p:spPr>
      </p:pic>
      <p:sp>
        <p:nvSpPr>
          <p:cNvPr id="786" name="Slide Number Placeholder 3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552-EF93-4732-9E14-EF21C31F5A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1MSU-Install-007.jpg"/>
          <p:cNvPicPr/>
          <p:nvPr/>
        </p:nvPicPr>
        <p:blipFill>
          <a:blip r:embed="rId1"/>
          <a:stretch/>
        </p:blipFill>
        <p:spPr>
          <a:xfrm>
            <a:off x="1531800" y="372960"/>
            <a:ext cx="6099480" cy="606132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5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76F0-2153-461E-A846-743AB2D14D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3" descr="mixed_glass_front.jpg"/>
          <p:cNvPicPr/>
          <p:nvPr/>
        </p:nvPicPr>
        <p:blipFill>
          <a:blip r:embed="rId1"/>
          <a:stretch/>
        </p:blipFill>
        <p:spPr>
          <a:xfrm>
            <a:off x="601560" y="58680"/>
            <a:ext cx="7940880" cy="6696000"/>
          </a:xfrm>
          <a:prstGeom prst="rect">
            <a:avLst/>
          </a:prstGeom>
          <a:ln w="0">
            <a:noFill/>
          </a:ln>
        </p:spPr>
      </p:pic>
      <p:sp>
        <p:nvSpPr>
          <p:cNvPr id="790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C6C1-1ACE-4BDC-AC76-EDD98D9263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6" descr="mixed-panels_corner-office.jpg"/>
          <p:cNvPicPr/>
          <p:nvPr/>
        </p:nvPicPr>
        <p:blipFill>
          <a:blip r:embed="rId1"/>
          <a:stretch/>
        </p:blipFill>
        <p:spPr>
          <a:xfrm>
            <a:off x="506520" y="671400"/>
            <a:ext cx="8169120" cy="544032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6C49-EB2D-440F-BC52-2E95B917EC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mixed-panels_lounge-room.jpg"/>
          <p:cNvPicPr/>
          <p:nvPr/>
        </p:nvPicPr>
        <p:blipFill>
          <a:blip r:embed="rId1"/>
          <a:stretch/>
        </p:blipFill>
        <p:spPr>
          <a:xfrm>
            <a:off x="1389240" y="801720"/>
            <a:ext cx="6365520" cy="52210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3C0-EFBB-47B8-B774-F7AC5EF320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3" descr="solid_panel_full_height.jpg"/>
          <p:cNvPicPr/>
          <p:nvPr/>
        </p:nvPicPr>
        <p:blipFill>
          <a:blip r:embed="rId1"/>
          <a:stretch/>
        </p:blipFill>
        <p:spPr>
          <a:xfrm>
            <a:off x="1714680" y="776160"/>
            <a:ext cx="5715000" cy="5305680"/>
          </a:xfrm>
          <a:prstGeom prst="rect">
            <a:avLst/>
          </a:prstGeom>
          <a:ln w="0">
            <a:noFill/>
          </a:ln>
        </p:spPr>
      </p:pic>
      <p:sp>
        <p:nvSpPr>
          <p:cNvPr id="796" name="Slide Number Placeholder 2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E520-2AFF-44FF-9352-AE1F8DF57C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2" descr="GlassFront-Showroom.jpg"/>
          <p:cNvPicPr/>
          <p:nvPr/>
        </p:nvPicPr>
        <p:blipFill>
          <a:blip r:embed="rId1"/>
          <a:stretch/>
        </p:blipFill>
        <p:spPr>
          <a:xfrm>
            <a:off x="485640" y="372960"/>
            <a:ext cx="8139240" cy="581508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3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FCC8-EEDF-4E68-B2F2-2E41FBED1C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53760" y="812520"/>
            <a:ext cx="848988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lvl="2" marL="15516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1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4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440" indent="-5292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Tax savings…accelerated depreciation schedul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17440" indent="-5292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Minimize real property taxes on non-performing investmen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17440" indent="-5292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Product  re-use instead of disposal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8" descr="Picture2.png"/>
          <p:cNvPicPr/>
          <p:nvPr/>
        </p:nvPicPr>
        <p:blipFill>
          <a:blip r:embed="rId2"/>
          <a:stretch/>
        </p:blipFill>
        <p:spPr>
          <a:xfrm>
            <a:off x="3127320" y="1592280"/>
            <a:ext cx="4041720" cy="2657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2" descr="Construction-waste.jpg"/>
          <p:cNvPicPr/>
          <p:nvPr/>
        </p:nvPicPr>
        <p:blipFill>
          <a:blip r:embed="rId3"/>
          <a:stretch/>
        </p:blipFill>
        <p:spPr>
          <a:xfrm>
            <a:off x="6637320" y="5186520"/>
            <a:ext cx="2506680" cy="13446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9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252080" y="3808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33cc"/>
                </a:solidFill>
                <a:latin typeface="Eurostile"/>
                <a:ea typeface="Times New Roman"/>
              </a:rPr>
              <a:t>Better Return on Investment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Slide Number Placeholder 7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F29-2478-42B2-8663-6147A72D4B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10" descr="FeatureWall_NxtWall-Finesse-Integration.jpg"/>
          <p:cNvPicPr/>
          <p:nvPr/>
        </p:nvPicPr>
        <p:blipFill>
          <a:blip r:embed="rId1"/>
          <a:stretch/>
        </p:blipFill>
        <p:spPr>
          <a:xfrm>
            <a:off x="936720" y="652320"/>
            <a:ext cx="7169040" cy="557244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11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14F1-2CBF-4909-A79C-2A4F757F0D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8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328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3366"/>
                </a:solidFill>
                <a:latin typeface="Eurostile"/>
              </a:rPr>
              <a:t>Our </a:t>
            </a:r>
            <a:r>
              <a:rPr b="0" lang="en-US" sz="4400" spc="-1" strike="noStrike">
                <a:solidFill>
                  <a:srgbClr val="003366"/>
                </a:solidFill>
                <a:latin typeface="Eurostile"/>
              </a:rPr>
              <a:t>Environmental</a:t>
            </a:r>
            <a:r>
              <a:rPr b="0" lang="fr-CA" sz="4400" spc="-1" strike="noStrike">
                <a:solidFill>
                  <a:srgbClr val="003366"/>
                </a:solidFill>
                <a:latin typeface="Eurostile"/>
              </a:rPr>
              <a:t>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green_mountain2.jpg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7"/>
          <p:cNvSpPr/>
          <p:nvPr/>
        </p:nvSpPr>
        <p:spPr>
          <a:xfrm>
            <a:off x="0" y="0"/>
            <a:ext cx="8997840" cy="459720"/>
          </a:xfrm>
          <a:prstGeom prst="rect">
            <a:avLst/>
          </a:prstGeom>
          <a:noFill/>
          <a:ln w="0">
            <a:noFill/>
          </a:ln>
          <a:effectLst>
            <a:outerShdw dist="87624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  <a:ea typeface="Tahoma"/>
              </a:rPr>
              <a:t>Environmental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1614600" y="1208160"/>
            <a:ext cx="58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3366"/>
                </a:solidFill>
                <a:latin typeface="Eurostile"/>
              </a:rPr>
              <a:t>Environmental responsibility begins with a product’s ability to support significant change and re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9"/>
          <p:cNvSpPr/>
          <p:nvPr/>
        </p:nvSpPr>
        <p:spPr>
          <a:xfrm>
            <a:off x="1625760" y="2949480"/>
            <a:ext cx="58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3366"/>
                </a:solidFill>
                <a:latin typeface="Eurostile"/>
              </a:rPr>
              <a:t>Manufacturing of any kind places a burden o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0"/>
          <p:cNvSpPr/>
          <p:nvPr/>
        </p:nvSpPr>
        <p:spPr>
          <a:xfrm>
            <a:off x="1614600" y="4361040"/>
            <a:ext cx="58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3366"/>
                </a:solidFill>
                <a:latin typeface="Eurostile"/>
              </a:rPr>
              <a:t>Keeping this in mind, NxtWall leads the way in product reuse, while providing many other sustainab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A3F-0C97-467C-871D-96E27D693F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8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0" y="3344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3366"/>
                </a:solidFill>
                <a:latin typeface="Eurostile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17600" y="1092240"/>
            <a:ext cx="87264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20456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cycled and recyclabl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1040" indent="-410400">
              <a:lnSpc>
                <a:spcPct val="100000"/>
              </a:lnSpc>
              <a:spcBef>
                <a:spcPts val="400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Alumi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11040" indent="-410400">
              <a:lnSpc>
                <a:spcPct val="100000"/>
              </a:lnSpc>
              <a:spcBef>
                <a:spcPts val="400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Acrylic and 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11040" indent="-410400">
              <a:lnSpc>
                <a:spcPct val="100000"/>
              </a:lnSpc>
              <a:spcBef>
                <a:spcPts val="400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St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11040" indent="-410400">
              <a:lnSpc>
                <a:spcPct val="100000"/>
              </a:lnSpc>
              <a:spcBef>
                <a:spcPts val="400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Formaldehyde free board a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1104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9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anufacturing “off fall” used for sound attenuation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Outstanding products reus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Supports the use of natural light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gional materials as needed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Supports worker comfort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5880" indent="-41040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Safety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7FFC-F5B1-4AD6-9824-D060B7BDC3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2080" y="38088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cc"/>
                </a:solidFill>
                <a:latin typeface="Eurostile"/>
                <a:ea typeface="Times New Roman"/>
              </a:rPr>
              <a:t>Sustainable Architectural El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0" y="14097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lvl="2" marL="23292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261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26160" indent="-7920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A – 1.1  Optimize Energy Performance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Lighting Power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10"/>
          <p:cNvSpPr/>
          <p:nvPr/>
        </p:nvSpPr>
        <p:spPr>
          <a:xfrm>
            <a:off x="1208160" y="1038240"/>
            <a:ext cx="79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Energy &amp;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1252440" y="3348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ample Potential LEED – CI P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0" y="2635200"/>
            <a:ext cx="91440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95280" indent="-38088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 algn="just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1.2  Building Re-Use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aintain 40% of Interior Non-Structural Component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1.3  Building Re-Use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aintain 60% of Interior Non-Structural Component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2.1  Construction Waste Management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Divert 50% from Landfill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 </a:t>
            </a:r>
            <a:br>
              <a:rPr sz="1400"/>
            </a:b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(Note if MR credits 3, 4, 5, 6 and 7 are used, this credit does not app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2.2  Construction Waste Management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Divert 75% from Landfill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 </a:t>
            </a:r>
            <a:br>
              <a:rPr sz="1400"/>
            </a:b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(Note if MR credits 3, 4, 5, 6 and 7 are used, this credit does not app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3.1  Resource Reuse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pecify 5%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3.2  Resource Reuse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pecify 10%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4.1  Recycled Content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10% (post consumer + ½ pre-consumer)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4.2  Recycled Content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20% (post consumer + ½ pre-consumer)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5.1  Regional Material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20% Manufactured Regionally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15"/>
          <p:cNvSpPr/>
          <p:nvPr/>
        </p:nvSpPr>
        <p:spPr>
          <a:xfrm>
            <a:off x="1208160" y="2263680"/>
            <a:ext cx="79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aterials &amp;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7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EB6-911E-40CE-AABB-AD910AF780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0" y="1308240"/>
            <a:ext cx="9144000" cy="11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lvl="2" marL="3754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52560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25600" indent="-12780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5.2  Regional Material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10% Extracted and Manufactured Regionally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25600" indent="-12780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6     Rapidly Renewable Material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525600" indent="-12780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MR – 7     Certified Wood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1208160" y="958680"/>
            <a:ext cx="79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Materials &amp; Resourc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1252440" y="3348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33cc"/>
                </a:solidFill>
                <a:latin typeface="Eurostile"/>
                <a:ea typeface="Times New Roman"/>
              </a:rPr>
              <a:t>Sample Potential LEED – CI P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0" y="2978280"/>
            <a:ext cx="914400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95280" indent="-38088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 algn="just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Q – 4.1  Low Emitting Material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Adhesives &amp; Sealant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Q – 4.2  Low Emitting Material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Paint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Q – 4.4  Low Emitting Material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Composite Wood and Laminate Adhesive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Q – 8.1  Daylighting &amp; View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Daylight 75% of Space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Q – 8.2  Daylighting &amp; View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Daylight 90% of Space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EQ – 8.3  Daylighting &amp; Views, 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Views for 90% of Seated Spaces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15"/>
          <p:cNvSpPr/>
          <p:nvPr/>
        </p:nvSpPr>
        <p:spPr>
          <a:xfrm>
            <a:off x="1208160" y="2629080"/>
            <a:ext cx="79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Indoor Environment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0" y="562608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95280" indent="-38088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 algn="just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34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ID – 1.1-1.4  Innovation in Design</a:t>
            </a:r>
            <a:r>
              <a:rPr b="0" lang="en-US" sz="1400" spc="-1" strike="noStrike">
                <a:solidFill>
                  <a:srgbClr val="0033cc"/>
                </a:solidFill>
                <a:latin typeface="Eurostile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4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2960" indent="-441360">
              <a:lnSpc>
                <a:spcPct val="11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Eurostile"/>
                <a:ea typeface="Times New Roman"/>
              </a:rPr>
              <a:t>ID – 2           LEED Accredited Professional, </a:t>
            </a:r>
            <a:r>
              <a:rPr b="0" lang="en-US" sz="1400" spc="-1" strike="noStrike">
                <a:solidFill>
                  <a:srgbClr val="ff0000"/>
                </a:solidFill>
                <a:latin typeface="Eurostile"/>
                <a:ea typeface="Times New Roman"/>
              </a:rPr>
              <a:t>1 Point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1208160" y="5278320"/>
            <a:ext cx="79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Innovation &amp; Desig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0" y="960120"/>
            <a:ext cx="91440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1656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152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31520" indent="-397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U.S. Environmental Protection Agency – Approximately </a:t>
            </a:r>
            <a:r>
              <a:rPr b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30% </a:t>
            </a: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of all landfill waste is from construction, renovation and demolition.  Over </a:t>
            </a:r>
            <a:r>
              <a:rPr b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50% </a:t>
            </a: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is from buildings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1520" indent="-397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California Integrated Waste Management Board, 2002 – Over </a:t>
            </a:r>
            <a:r>
              <a:rPr b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10% </a:t>
            </a: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of drywall in new construction ends up as scrap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1520" indent="-397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A Cornell University Study concluded that for every square foot of drywall installed, </a:t>
            </a:r>
            <a:r>
              <a:rPr b="0" i="1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one pound </a:t>
            </a:r>
            <a:r>
              <a:rPr b="0" lang="en-US" sz="2000" spc="-1" strike="noStrike">
                <a:solidFill>
                  <a:srgbClr val="0033cc"/>
                </a:solidFill>
                <a:latin typeface="Eurostile"/>
                <a:ea typeface="Times New Roman"/>
              </a:rPr>
              <a:t>was waste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1520" indent="-397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U.S. Dept of Energy – Commercial Buildings in the U.S. use </a:t>
            </a:r>
            <a:r>
              <a:rPr b="1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17%</a:t>
            </a: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 of all energy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1520" indent="-397080">
              <a:lnSpc>
                <a:spcPct val="100000"/>
              </a:lnSpc>
              <a:spcBef>
                <a:spcPts val="499"/>
              </a:spcBef>
              <a:buClr>
                <a:srgbClr val="74b230"/>
              </a:buClr>
              <a:buSzPct val="140000"/>
              <a:buFont typeface="Arial"/>
              <a:buChar char="•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U.S. Environmental Protection Agency – Of the 14 Sectors that account for </a:t>
            </a:r>
            <a:r>
              <a:rPr b="1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84%</a:t>
            </a: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  of all Green House Gas (GHG) emission,  the construction industry was the </a:t>
            </a:r>
            <a:r>
              <a:rPr b="1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33cc"/>
                </a:solidFill>
                <a:latin typeface="Eurostile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 highest </a:t>
            </a:r>
            <a:r>
              <a:rPr b="0" lang="en-US" sz="1800" spc="-1" strike="noStrike">
                <a:solidFill>
                  <a:srgbClr val="0033cc"/>
                </a:solidFill>
                <a:latin typeface="Eurostile"/>
                <a:ea typeface="Times New Roman"/>
              </a:rPr>
              <a:t>with 6% of all GHG emissions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7"/>
          <p:cNvSpPr/>
          <p:nvPr/>
        </p:nvSpPr>
        <p:spPr>
          <a:xfrm>
            <a:off x="3276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1264320" y="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cc"/>
                </a:solidFill>
                <a:latin typeface="Eurostile"/>
                <a:ea typeface="Times New Roman"/>
              </a:rPr>
              <a:t>Reasons for Using Demountable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1196640" y="380880"/>
            <a:ext cx="7947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Eurostile"/>
                <a:ea typeface="Times New Roman"/>
              </a:rPr>
              <a:t>Facts About Standard Drywall Constr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02:12:27Z</dcterms:created>
  <dc:creator>Gregg Cullen</dc:creator>
  <dc:description/>
  <dc:language>en-US</dc:language>
  <cp:lastModifiedBy>Gregg</cp:lastModifiedBy>
  <dcterms:modified xsi:type="dcterms:W3CDTF">2012-06-08T14:32:57Z</dcterms:modified>
  <cp:revision>681</cp:revision>
  <dc:subject>Creating a more flexible sustainable facility</dc:subject>
  <dc:title>NXTWALL - Demountable Interior Walls</dc:title>
</cp:coreProperties>
</file>