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E3D-3FE7-4848-8E4A-809D04B3E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C14-60C6-4ED2-8B2B-E37BCED6FC4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0261-9415-47D6-A814-CC23FFE517F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DEF-43DB-4F36-888A-049ECE00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E7C-A44B-4A0E-A92C-FA92D327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0D0-4FC0-4D59-83E5-0BA4FD44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5BB-8757-4F15-AFA9-E237FD75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EF9-984E-4501-8F6D-2CE35B94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E7B-604F-4489-889C-B545477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7D9-C3E7-45CE-974B-487E86A7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D65-BEED-4D26-8BB6-F7BF0E8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9B0-DE53-4B88-A84B-6323F13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31B-4764-4FC4-B4BC-63F8405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818-D0BA-4FDB-AABE-F6DAB26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895-C3E1-4C23-A67F-9783BF0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5DC-A45D-43E8-96B9-5C6E41CE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706400" y="1146240"/>
            <a:ext cx="5731200" cy="8620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943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b2e"/>
                </a:solidFill>
                <a:latin typeface="Calibri"/>
              </a:rPr>
              <a:t>Unitized </a:t>
            </a:r>
            <a:r>
              <a:rPr b="1" lang="en-US" sz="2800" spc="-1" strike="noStrike">
                <a:solidFill>
                  <a:srgbClr val="0c1b2e"/>
                </a:solidFill>
                <a:latin typeface="Calibri"/>
              </a:rPr>
              <a:t>vs</a:t>
            </a:r>
            <a:r>
              <a:rPr b="1" lang="en-US" sz="4400" spc="-1" strike="noStrike">
                <a:solidFill>
                  <a:srgbClr val="0c1b2e"/>
                </a:solidFill>
                <a:latin typeface="Calibri"/>
              </a:rPr>
              <a:t> Pre-Engineered </a:t>
            </a:r>
            <a:r>
              <a:rPr b="1" lang="en-US" sz="2800" spc="-1" strike="noStrike">
                <a:solidFill>
                  <a:srgbClr val="0c1b2e"/>
                </a:solidFill>
                <a:latin typeface="Calibri"/>
              </a:rPr>
              <a:t>vs</a:t>
            </a:r>
            <a:r>
              <a:rPr b="1" lang="en-US" sz="4400" spc="-1" strike="noStrike">
                <a:solidFill>
                  <a:srgbClr val="0c1b2e"/>
                </a:solidFill>
                <a:latin typeface="Calibri"/>
              </a:rPr>
              <a:t> Nxt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0" y="560088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1b2e"/>
                </a:solidFill>
                <a:latin typeface="Calibri"/>
              </a:rPr>
              <a:t>Competitive 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800440" y="-88920"/>
            <a:ext cx="35240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sthetic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295280"/>
          <a:ext cx="8839440" cy="54864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484668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woods, laminates, fabrics, glass, decorative resin or polycarbonate inserts, etc…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amless glass fron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or Double Pane Glass Fronts - Very Few?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Paned Glas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sed reveal for panel to panel connecti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sed floor or ceiling revea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izontal reveals availabl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panel widths based on 6" or 12" increments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woods, laminates, fabrics, glass, decorative resin or polycarbonate inserts, etc…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mless glass fron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or Double Pane Glass Fronts - Very Few?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Paned Glas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sed reveal for panel to panel connecti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sed floor or ceiling revea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izontal reveals availabl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panel widths based on 6" or 12" increments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woods, laminates, fabrics, glass, decorative resin or polycarbonate inserts, etc…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mless Glass Fron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or Double Pane Glass Fron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w Series Provides Center Pane Glas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 Series has no recessed reveal - Joint cover strip has a functional purpose for "field fit“.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 Series has no recessed ceiling and floor reveal.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izontal reveal available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widths available for any increment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oustic Consid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280" y="1828800"/>
          <a:ext cx="8839440" cy="475452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411480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ble of 30 to low 40 STC rating.  Typically consistent FSTC perform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pane glass with reduced STC perform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ed to attach to ceiling grid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ble of 30 to low 40 STC rating.  Typically inconsistent FSTC perform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ith option for double pane glass(seals???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ed to attach to ceiling grid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ble of Low 40 to above 50 STC rating.  Typically consistent FSTC perform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or double pane glass.  View series can use 1/2" glass with stronger ST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ed to attach to ceiling grid and or to d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lity to Integrate drop seals on 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exibil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828800"/>
          <a:ext cx="8839440" cy="46227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98304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welded or fixed and built to the specification ordered or desired for each specific installati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adjustment with glides only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ths are not changed in fiel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cut around window sills, bulkheads, columns, etc…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pre-engineered/pre-manufactured and built to the specification ordered or desired for each specific installati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adjustment with glides only or in some cases an add on frame and til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ths are not changed in field unless order for new horizontal cross-member and til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designed to be cut around window sills, bulkheads, columns, etc…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can be easily altered, cut, etc.- in the field to adapt to a change requirem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is easily changed in the field, up or dow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widths are easily changed in the fiel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ly cut around window sills, bulkheads, special column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ass Panels converted to solid and solid back to glass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Reuse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1828800"/>
          <a:ext cx="8839440" cy="46227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98304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 of wall material cannot be change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 height cannot be increased or decrease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configuration 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e. half glass/half solid etc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cannot be altered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 of wall material can be changed with some limitation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 height can be increased with a special pre-engineered and pre-manufactured add 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configuration can be altered.  In some cases it requires the correct parts, horizontal cross members, etc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 finish (glass or solid) is easily changed from install to instal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 height can be easily changed up or dow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is easily altered in the field prior to or during instal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izontal Studs can function as verticals and reverse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ing Logistics and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828800"/>
          <a:ext cx="8839440" cy="46227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98304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ordered to the specific install, one panel is typically one part (exception for base and tri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shipped fully assemble to be stud in to pla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ass is shipped typically already assembled in pane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cannot be ordered until ceilings, floors, internal walls are completed to confirm measurem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 packaging material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parts and pieces required to complete pane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shipped KD “Knocked Down”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ass is shipped with all material for installati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cannot be ordered until ceilings, floors, internal walls are completed to confirm measurem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 packaging material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 consists of universal studs and tracks and wall boar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 are shipped KD “Knocked Down”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ass is typically measured in the field.  Pre-order requires use of View series or careful measuremen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can be ordered larger to support an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ccelerate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 schedul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 packaging material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tainabil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828800"/>
          <a:ext cx="8839440" cy="46227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98304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use of glass or light emitting materials to allow natural light to flow through spa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material usage to be determined based on end user proximity to production facility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includes recyclable and recycled cont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quires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bor and processing to return product back to raw material for recycling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use of glass or light emitting materials to allow natural light to flow through spa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material usage to be determined based on end user proximity to production facility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includes recyclable and recycled cont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quires labor and processing to return product back to raw material for recycling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use of glass or light emitting materials to allow natural light to flow through spa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ly supports use of regional material usag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includes recyclable and recycled cont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cycles easily with no addition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use of Low VOC Material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an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828800"/>
          <a:ext cx="8839440" cy="46227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98304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standard wiring system, hard wire compatible typically at base, no ability to route wiring through panels due to closed co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ables run through base or panel to panel pilast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prefer base infeed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standard wiring system, typically NOT hard wire compatible, ability to route wiring through panels due to open cor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ables run through open core of panels and bas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ed at base or ceiling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standard wiring system, hardwiring, or other modular quick connect systems.  Wiring and data easily accessed through internal cavity of pane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ables run through or to any place on the pane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ed at base or ceiling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2222640"/>
            <a:ext cx="9144000" cy="24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Eurostile"/>
              </a:rPr>
              <a:t>Thank you!</a:t>
            </a:r>
            <a:br>
              <a:rPr sz="5000"/>
            </a:br>
            <a:br>
              <a:rPr sz="5000"/>
            </a:b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6248520" y="5962680"/>
            <a:ext cx="27622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99920" y="2362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ession will review significant difference between the various approaches to walls such as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unitized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mountable pre-engineer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ill compare and contrast competitors wi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xtWall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iqu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field fit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ujnit.jpg"/>
          <p:cNvPicPr/>
          <p:nvPr/>
        </p:nvPicPr>
        <p:blipFill>
          <a:blip r:embed="rId1"/>
          <a:stretch/>
        </p:blipFill>
        <p:spPr>
          <a:xfrm>
            <a:off x="5029200" y="561960"/>
            <a:ext cx="3429000" cy="236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2nd.jpg"/>
          <p:cNvPicPr/>
          <p:nvPr/>
        </p:nvPicPr>
        <p:blipFill>
          <a:blip r:embed="rId2"/>
          <a:stretch/>
        </p:blipFill>
        <p:spPr>
          <a:xfrm>
            <a:off x="0" y="3759120"/>
            <a:ext cx="4464000" cy="309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4803840" y="3600360"/>
            <a:ext cx="2027160" cy="320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Basement001.jpg"/>
          <p:cNvPicPr/>
          <p:nvPr/>
        </p:nvPicPr>
        <p:blipFill>
          <a:blip r:embed="rId4"/>
          <a:stretch/>
        </p:blipFill>
        <p:spPr>
          <a:xfrm>
            <a:off x="174600" y="752400"/>
            <a:ext cx="42465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5"/>
          <p:cNvSpPr/>
          <p:nvPr/>
        </p:nvSpPr>
        <p:spPr>
          <a:xfrm>
            <a:off x="2755800" y="660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1FB-D7A6-482F-B438-C6CC1A824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2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Various Approaches to Interior Wall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3124080"/>
            <a:ext cx="3657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23800" indent="-468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urostile"/>
                <a:ea typeface="Times New Roman"/>
              </a:rPr>
              <a:t>Conventional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3449520" y="2995560"/>
            <a:ext cx="5867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itized (first gene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000760" y="6262560"/>
            <a:ext cx="654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(product fits to build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-1319040" y="3652920"/>
            <a:ext cx="61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e-engine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(second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411960" y="3886200"/>
            <a:ext cx="3211560" cy="8312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Truly Demoun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         “</a:t>
            </a: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Field F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8"/>
          <p:cNvSpPr/>
          <p:nvPr/>
        </p:nvSpPr>
        <p:spPr>
          <a:xfrm flipH="1">
            <a:off x="4478400" y="706320"/>
            <a:ext cx="1440" cy="596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3"/>
          <p:cNvSpPr/>
          <p:nvPr/>
        </p:nvSpPr>
        <p:spPr>
          <a:xfrm>
            <a:off x="173160" y="3600360"/>
            <a:ext cx="871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untitled.bmp"/>
          <p:cNvPicPr/>
          <p:nvPr/>
        </p:nvPicPr>
        <p:blipFill>
          <a:blip r:embed="rId5"/>
          <a:stretch/>
        </p:blipFill>
        <p:spPr>
          <a:xfrm>
            <a:off x="3048120" y="1752480"/>
            <a:ext cx="1295280" cy="1371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ntional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712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approach is not simply a gypsum wall, but includes the “stick built” glass fronts available in the indus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they build them…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est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end user to build whatever they would like to bui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ception of movement not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esthetically they appear to be fixed or have a sense of perman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despread use in an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constructed to deliver any STC or sound control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can repair a hole in the wall without having to order a new panel with an extended lead tim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ntional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712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they dislike about them…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are perman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 too much time to comp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depreciation or tax bene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ructed wall will increase real property tax burden (depends on state tax cod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 multiple trades to complete its constr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gnificant dirt and debris not ideal for construction in an occupied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requires tear down, disposal and rebui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 environmentally friendly waste goes in landfi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built to deck they require more cost with ceiling and flooring cut ins.  More cost….more was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ized” vs Pre-Engineered/Pre-Manufactured vs  NxtWall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ho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209680"/>
          <a:ext cx="8839440" cy="43578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1808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nd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w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c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 Genius W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case Privacy W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br>
                        <a:rPr sz="18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knion Al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of the Italian or European designed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- Flex Ser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- Genesis Ser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- View Series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Design and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828800"/>
          <a:ext cx="8839440" cy="45720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8431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888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ded or assembled frame delivered as a completed and closed core pane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widely used and widely accepted.  First generation approach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handed door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s designed to go over carpet to ceiling grid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 of parts consisting of vertical uprights, horizontal cross-members, various trim pieces, screws, panel and or panel inserts, glazing, etc.  All parts are built to and for a specific requireme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ed from systems furniture approach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handed door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s designed to go over carpet to ceiling 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nimal kit of parts consisting of a universal vertical and horizontal stud, single top and bottom track, joint cover strip, wall material, insulation, and a few miscellaneous part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generation with adaptability for changing applications or building condition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sal and non-handed door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ls capable of going floor to ceiling or deck to d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ncial Consid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1828800"/>
          <a:ext cx="8839440" cy="317988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72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"Unitized"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Engineered/Pre-Manufactured Demountable W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xtWall’s "Field Fit"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2540160"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es for accelerated depreciation schedule of IRS Tax cod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aler sell typically $225.00 - $400.00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use during changes provide a greater ROI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es for accelerated depreciation schedule of IRS Tax cod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aler sell Typically $300.00 - $600.00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use during changes provide a greater ROI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es for accelerated depreciation schedule of IRS Tax cod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aler Sell Typically $125.00 - $325.00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reuse during changes provide a greater ROI (Higher product reuse?)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4:19:03Z</dcterms:created>
  <dc:creator>nxtwall@nxtwall.com</dc:creator>
  <dc:description/>
  <dc:language>en-US</dc:language>
  <cp:lastModifiedBy>Gregg</cp:lastModifiedBy>
  <dcterms:modified xsi:type="dcterms:W3CDTF">2014-03-07T21:11:16Z</dcterms:modified>
  <cp:revision>31</cp:revision>
  <dc:subject/>
  <dc:title>Unitized vs Pre-Engineered vs NxtWall</dc:title>
</cp:coreProperties>
</file>